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4EE-6BB3-49D2-A084-65F44762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284-49B9-4192-95D9-CA420C03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F2A-830A-4C29-B21E-A73757A2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A01-20C9-4390-A0A5-AAEB94C7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0C3A-D720-4EB7-883F-990D1D15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7194-7070-4EFA-9847-F2F48BA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EC5B-689A-4DCD-B1C2-0BE506A0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3B82-B687-4ADB-A418-7F2903EC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1B6B-DDCF-44AB-8303-E5C68B29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28B5-19C4-429B-8E83-D05A7665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1554-E5DD-40BC-940F-C6B835E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28E-550C-4C72-BA91-22B983FF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0CF6-F1DD-441B-A93D-19088BE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EEF1-C293-46B8-81C0-CCEFF39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FD24-4108-4456-8AAF-D4EE69DE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D71-757E-489A-B8A5-D15D2138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3950-F8E4-4952-BCA9-8AC79133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0BE-63D6-44F2-880C-EC9FEF9B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84E-28DC-46A1-A751-F848F2D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C71-1C33-4AE4-903D-3DB5E27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4ED-D63A-431B-A4CD-7EE03E2C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FF3-9546-4694-B07B-5AEE240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C60-4EC0-4AAC-A18A-E9CA29F8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7C6-677C-4867-99A9-FAA8AB4D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E54E-DAA8-4131-BF2C-865BEE95A38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FAD-DD5F-4226-B3E6-9E70DFD5639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a1gjhyQf_k" TargetMode="External"/><Relationship Id="rId2" Type="http://schemas.openxmlformats.org/officeDocument/2006/relationships/image" Target="../media/image2.pct"/><Relationship Id="rId3" Type="http://schemas.openxmlformats.org/officeDocument/2006/relationships/hyperlink" Target="http://www.youtube.com/watch?v=2a1gjhyQf_k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imbabw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ob And 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480" y="6019920"/>
            <a:ext cx="6032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ea typeface="Osaka"/>
                <a:hlinkClick r:id="rId3"/>
              </a:rPr>
              <a:t>Zimbabwe National An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mbabwe is Located in Southern Africa and is Bordered by Zambia, Mozambique, and South Af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bout the size of Montana, and its population is around 12.7 million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15000" y="4830840"/>
            <a:ext cx="2514600" cy="2027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201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 192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88, Lobengula, the ruler, signed an agreement that granted mineral rights to the British South African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3 - The British South African Company occupied the region and called the territory Rhodesia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7 - Great Britain recognized southern and northern Rhodesia as separate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78720" y="0"/>
            <a:ext cx="1565280" cy="20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126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0s to 194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23, Southern Rhodesia became a self-governing British colo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1930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grab of land drove thousands of Africans into reservations and land was taken from owner and given to Rhodesian soldiers. Was consolidated by Land Apportionment act of 193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31240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40s and 5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rved under Britain in WWI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gradual radicalization of the African labor force occurred due to terribly poor wages and condi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rfield Todd, the federat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’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ime minister, was thrown ou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675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953 Great Britain set up the Federation of Rhodesia and Nyasaland, which included the territories of Southern and Northern Rhodes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99036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3 - The Federation of Rhodesia and Nyasaland was dissolved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4 - Northern Rhodesia became Zambia  while Southern Rhodesia became known as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rmber 11, 1965 Prime Minister, Ian Smith, declared Rhodesia independent. Great Britain declared this action illegal and banned trade with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6 The United Nations imposed sanctions on Rhodesia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9 A new constitution was introduced to prevent black Africans from ever gaining control of the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1524240" cy="1168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707240" y="2514600"/>
            <a:ext cx="1436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0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2 1970 Rhodesia declared itself a republic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70-1974 Civil War between government troops and black guerril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77-1979 Prime Minister Smith began to make plans to establish a new government with a majority of black leaders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1979 - Election resulted in a majority of black leaders and Abel T. Muzorewa became the first black Prime Minister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 May 1979 - Zimbabwe proclaimed independence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June 1979 - The nation of Zimbabwe, formerly Rhodesia, was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151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9:51:52Z</dcterms:created>
  <dc:creator>Office 2004 Test Drive User</dc:creator>
  <dc:description/>
  <dc:language>en-US</dc:language>
  <cp:lastModifiedBy>Office 2004 Test Drive User</cp:lastModifiedBy>
  <dcterms:modified xsi:type="dcterms:W3CDTF">2010-05-04T20:40:21Z</dcterms:modified>
  <cp:revision>46</cp:revision>
  <dc:subject/>
  <dc:title>Zimbabwe</dc:title>
</cp:coreProperties>
</file>