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A26-C4D9-475B-A081-D23070BD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DD8-705A-4FBE-8DA2-262C56CF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060-06D3-432F-8D7E-2426393B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041-D912-47B1-913F-72B84E2F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EA21-61EC-4CB3-9528-6276FC8D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E09A-8ADB-45DF-9333-410168FF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0B16-5E1C-4919-A3B5-36D0CBDB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D367-28B3-4ABE-9FD5-67942481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3977-12F8-43F4-B683-4CB6C9D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A71D-4E3F-45CD-9783-204FABCD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260-026D-4406-A8AA-9A242A5F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29A-5753-41E8-9BD2-F120B554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6433-4947-43A8-8DA7-F0C15BB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11E0-6879-407D-9937-F23468A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3C55-313F-4EEA-9064-B3669D68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BBAF-315E-463D-829F-8495599E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58C6-D72C-4729-94F9-9BC05CDE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D05-910D-4D00-B203-C13A62C4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790-20A9-431A-B66C-51F47385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CC3-B439-4A61-9D92-A8CDC241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09F-0375-4E97-BFE7-0770F0B6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6A4-00A7-4A67-971E-0DA3063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F20-5985-448D-A5A0-6D5806F6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B40-F36E-4990-84A0-6409C0E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28F9-B1B8-4227-846D-804A8D086D2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F122-0B0D-4BC5-97C5-CC627B8F803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a1gjhyQf_k" TargetMode="External"/><Relationship Id="rId2" Type="http://schemas.openxmlformats.org/officeDocument/2006/relationships/image" Target="../media/image2.pct"/><Relationship Id="rId3" Type="http://schemas.openxmlformats.org/officeDocument/2006/relationships/hyperlink" Target="http://www.youtube.com/watch?v=2a1gjhyQf_k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imbabw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ob And 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480" y="6019920"/>
            <a:ext cx="6032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ea typeface="Osaka"/>
                <a:hlinkClick r:id="rId3"/>
              </a:rPr>
              <a:t>Zimbabwe National An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mbabwe is Located in Southern Africa and is Bordered by Zambia, Mozambique, and South Af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bout the size of Montana, and its population is around 12.7 million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15000" y="4830840"/>
            <a:ext cx="2514600" cy="2027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201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 192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88, Lobengula, the ruler, signed an agreement that granted mineral rights to the British South African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3 - The British South African Company occupied the region and called the territory Rhodesia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7 - Great Britain recognized southern and northern Rhodesia as separate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78720" y="0"/>
            <a:ext cx="1565280" cy="20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126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0s to 194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23, Southern Rhodesia became a self-governing British colo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1930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grab of land drove thousands of Africans into reservations and land was taken from owner and given to Rhodesian soldiers. Was consolidated by Land Apportionment act of 193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31240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40s and 5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rved under Britain in WWI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gradual radicalization of the African labor force occurred due to terribly poor wages and condi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rfield Todd, the federat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’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ime minister, was thrown ou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953 Great Britain set up the Federation of Rhodesia and Nyasaland, which included the territories of Southern and Northern Rhodes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99036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3 - The Federation of Rhodesia and Nyasaland was dissolved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4 - Northern Rhodesia became Zambia  while Southern Rhodesia became known as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rmber 11, 1965 Prime Minister, Ian Smith, declared Rhodesia independent. Great Britain declared this action illegal and banned trade with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6 The United Nations imposed sanctions on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9 A new constitution was introduced to prevent black Africans from ever gaining control of the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1524240" cy="1168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707240" y="2514600"/>
            <a:ext cx="1436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2 1970 Rhodesia declared itself a republic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70-1974 Civil War between government troops and black guerril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77-1979 Prime Minister Smith began to make plans to establish a new government with a majority of black leaders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1979 - Election resulted in a majority of black leaders and Abel T. Muzorewa became the first black Prime Minister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 May 1979 - Zimbabwe proclaimed independence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June 1979 - The nation of Zimbabwe, formerly Rhodesia, was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151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9:51:52Z</dcterms:created>
  <dc:creator>Office 2004 Test Drive User</dc:creator>
  <dc:description/>
  <dc:language>en-US</dc:language>
  <cp:lastModifiedBy>Office 2004 Test Drive User</cp:lastModifiedBy>
  <dcterms:modified xsi:type="dcterms:W3CDTF">2010-05-04T20:40:21Z</dcterms:modified>
  <cp:revision>46</cp:revision>
  <dc:subject/>
  <dc:title>Zimbabwe</dc:title>
</cp:coreProperties>
</file>