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D1C-E5D6-48E5-AD05-AF48586B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BC0-B266-4199-A93E-81311CD3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741-C5E2-4FA1-AB7D-49C7F42D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9BB-3CEC-450F-B3A5-78EAAD91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0D06-D6BA-44CC-B500-DD6A85DA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5370-20CC-4F1C-BCC7-35BF4B8E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00F8-A0BC-4BCD-A712-ABD4DEAC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7058-034C-4890-BD6F-4FFECF53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01F4-92D9-4E3F-8F95-C9A86F30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604F-D3D6-479B-8454-B5C629B5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5233-A4BE-4CF3-A12E-DF3124E5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FBD-9D70-4DE5-A5B5-AA71C5C8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6F34-20CE-4796-B715-05605D88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4741-16FB-45F3-86BF-98EB7E84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7D1F-4A1A-4ADE-AD2B-7FD055F0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5C0A-EE84-4E94-B2DD-A00CADE8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2DCC-B496-4A1B-9E05-B70C4AF2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02B-9A03-476B-9122-E6E817DB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88C-7EA1-4451-A150-0DBE7C6C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5E7-280E-4B39-B8A5-A82A4AC2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2B7-897C-40E1-B16E-720E36F2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F2F-DA50-431F-AACE-1B3F6E03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479-2DDA-4CB4-BF66-8E015361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5D2-E379-4DD7-AAE4-82811EBB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A72F-F503-4A2B-B8D6-E7DB4829DB8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7A3F-D822-4E96-A5BD-7E3E17EE26A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a1gjhyQf_k" TargetMode="External"/><Relationship Id="rId2" Type="http://schemas.openxmlformats.org/officeDocument/2006/relationships/image" Target="../media/image2.pct"/><Relationship Id="rId3" Type="http://schemas.openxmlformats.org/officeDocument/2006/relationships/hyperlink" Target="http://www.youtube.com/watch?v=2a1gjhyQf_k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Zimbabw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kob And 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480" y="6019920"/>
            <a:ext cx="6032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ea typeface="Osaka"/>
                <a:hlinkClick r:id="rId3"/>
              </a:rPr>
              <a:t>Zimbabwe National An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mbabwe is Located in Southern Africa and is Bordered by Zambia, Mozambique, and South Af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bout the size of Montana, and its population is around 12.7 million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715000" y="4830840"/>
            <a:ext cx="2514600" cy="2027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201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 192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88, Lobengula, the ruler, signed an agreement that granted mineral rights to the British South African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3 - The British South African Company occupied the region and called the territory Rhodesia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7 - Great Britain recognized southern and northern Rhodesia as separate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78720" y="0"/>
            <a:ext cx="1565280" cy="205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126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20s to 194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23, Southern Rhodesia became a self-governing British colo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1930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grab of land drove thousands of Africans into reservations and land was taken from owner and given to Rhodesian soldiers. Was consolidated by Land Apportionment act of 193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31240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40s and 5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rved under Britain in WWI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gradual radicalization of the African labor force occurred due to terribly poor wages and condi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arfield Todd, the federat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’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ime minister, was thrown ou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953 Great Britain set up the Federation of Rhodesia and Nyasaland, which included the territories of Southern and Northern Rhodes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99036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3 - The Federation of Rhodesia and Nyasaland was dissolved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4 - Northern Rhodesia became Zambia  while Southern Rhodesia became known as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rmber 11, 1965 Prime Minister, Ian Smith, declared Rhodesia independent. Great Britain declared this action illegal and banned trade with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6 The United Nations imposed sanctions on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9 A new constitution was introduced to prevent black Africans from ever gaining control of the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1524240" cy="1168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707240" y="2514600"/>
            <a:ext cx="1436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2 1970 Rhodesia declared itself a republic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70-1974 Civil War between government troops and black guerril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77-1979 Prime Minister Smith began to make plans to establish a new government with a majority of black leaders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1979 - Election resulted in a majority of black leaders and Abel T. Muzorewa became the first black Prime Minister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 May 1979 - Zimbabwe proclaimed independence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June 1979 - The nation of Zimbabwe, formerly Rhodesia, was 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151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9:51:52Z</dcterms:created>
  <dc:creator>Office 2004 Test Drive User</dc:creator>
  <dc:description/>
  <dc:language>en-US</dc:language>
  <cp:lastModifiedBy>Office 2004 Test Drive User</cp:lastModifiedBy>
  <dcterms:modified xsi:type="dcterms:W3CDTF">2010-05-04T20:40:21Z</dcterms:modified>
  <cp:revision>46</cp:revision>
  <dc:subject/>
  <dc:title>Zimbabwe</dc:title>
</cp:coreProperties>
</file>