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0E0-5BD0-47AE-9CF6-03626D80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557-B4F5-4F7F-88C0-83921019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F98-37F7-42CD-B784-C736F8DE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862-F4DA-4D56-AE9C-35904FD0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E94A-F295-434C-8AF8-356BD48E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D4F3-903A-4F61-B8F1-67B4715C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D33B-1FD5-4CFE-9994-08472013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4142-CBEE-4728-A02F-F6C9030A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0C1D-1AAA-4CD2-A9D6-9DE69951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DC63-992D-42B9-8F8A-0ECD5D60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9120-D4A8-457C-8913-7282B060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DE6-BEEA-4FE6-9BB4-4E861615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0BA6-3B54-4807-80B3-443C971C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2A56-B090-4AB1-BA57-557B21B8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07F6-8E14-479F-868F-7EABAC0E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4047-EDE5-432B-AB62-38B035D5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0597-9282-49EA-A8E7-474A9ECF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1F8-BD93-4E15-9EA2-BDCF61CC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AEA-89EE-4DDA-A528-065BDC52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A34-1B65-4CA9-B26B-D35D6D37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AF6-5B21-40E6-9519-162967AD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EF0-1BD2-4688-8F9C-698393DA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7B2-73D7-456C-A3D6-6000DB6F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5AB-2499-4B0A-81BF-001F4DBA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46BD-4BC4-466F-A9D3-18FE7802BD8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D5BD-21AE-4D86-A652-DDF1AE069C0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a1gjhyQf_k" TargetMode="External"/><Relationship Id="rId2" Type="http://schemas.openxmlformats.org/officeDocument/2006/relationships/image" Target="../media/image2.pct"/><Relationship Id="rId3" Type="http://schemas.openxmlformats.org/officeDocument/2006/relationships/hyperlink" Target="http://www.youtube.com/watch?v=2a1gjhyQf_k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Zimbabw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kob And 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480" y="6019920"/>
            <a:ext cx="6032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ea typeface="Osaka"/>
                <a:hlinkClick r:id="rId3"/>
              </a:rPr>
              <a:t>Zimbabwe National An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mbabwe is Located in Southern Africa and is Bordered by Zambia, Mozambique, and South Af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bout the size of Montana, and its population is around 12.7 million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715000" y="4830840"/>
            <a:ext cx="2514600" cy="2027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201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 192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88, Lobengula, the ruler, signed an agreement that granted mineral rights to the British South African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3 - The British South African Company occupied the region and called the territory Rhodesia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7 - Great Britain recognized southern and northern Rhodesia as separate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78720" y="0"/>
            <a:ext cx="1565280" cy="205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126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20s to 194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23, Southern Rhodesia became a self-governing British colo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1930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grab of land drove thousands of Africans into reservations and land was taken from owner and given to Rhodesian soldiers. Was consolidated by Land Apportionment act of 193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31240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40s and 5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rved under Britain in WWI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gradual radicalization of the African labor force occurred due to terribly poor wages and condi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arfield Todd, the federat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’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ime minister, was thrown ou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953 Great Britain set up the Federation of Rhodesia and Nyasaland, which included the territories of Southern and Northern Rhodes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99036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3 - The Federation of Rhodesia and Nyasaland was dissolved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4 - Northern Rhodesia became Zambia  while Southern Rhodesia became known as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rmber 11, 1965 Prime Minister, Ian Smith, declared Rhodesia independent. Great Britain declared this action illegal and banned trade with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6 The United Nations imposed sanctions on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9 A new constitution was introduced to prevent black Africans from ever gaining control of the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1524240" cy="1168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707240" y="2514600"/>
            <a:ext cx="1436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2 1970 Rhodesia declared itself a republic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70-1974 Civil War between government troops and black guerril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77-1979 Prime Minister Smith began to make plans to establish a new government with a majority of black leaders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1979 - Election resulted in a majority of black leaders and Abel T. Muzorewa became the first black Prime Minister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 May 1979 - Zimbabwe proclaimed independence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June 1979 - The nation of Zimbabwe, formerly Rhodesia, was 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151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9:51:52Z</dcterms:created>
  <dc:creator>Office 2004 Test Drive User</dc:creator>
  <dc:description/>
  <dc:language>en-US</dc:language>
  <cp:lastModifiedBy>Office 2004 Test Drive User</cp:lastModifiedBy>
  <dcterms:modified xsi:type="dcterms:W3CDTF">2010-05-04T20:40:21Z</dcterms:modified>
  <cp:revision>46</cp:revision>
  <dc:subject/>
  <dc:title>Zimbabwe</dc:title>
</cp:coreProperties>
</file>