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1AA2-D005-479C-8049-2069213F5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BB16-D87D-4A6E-93BC-72637C24C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D279-BDD7-472D-84C3-9CC218E8A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14D-108A-4DD5-B6FA-04CC01CC4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D90-144F-47B5-901C-2918B2A5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38C-2B58-4621-B05F-EC41C89F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866-226F-47D9-A1F2-3F6AB8EA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6BE-BD06-4A9F-A60D-96293132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EF6-B486-4568-9F61-D5037DA5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0F8-339E-43D9-BB85-DC9AEC46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CB8-4524-483A-99BF-1A77928F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397-22BA-43FB-BA15-9969066B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5AF-98E6-4CC0-8C25-D5901135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44A-0B1A-4B02-9951-559EB12E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A5E-DF20-4F66-95F2-EC7C50C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C3C-3474-4EBE-8569-E5BC474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62FB-C366-483A-B603-BFED8DE25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2/Homer_Simpson_2006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76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335720" y="55450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higher resolution available.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mer_Simpson_2006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‎ (239 × 391 pixels, file size: 50 KB, MIME type: image/p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Ben Rothschild\My Documents\My Pictures\simpsonsBackL.jpg"/>
          <p:cNvPicPr/>
          <p:nvPr/>
        </p:nvPicPr>
        <p:blipFill>
          <a:blip r:embed="rId2"/>
          <a:stretch/>
        </p:blipFill>
        <p:spPr>
          <a:xfrm>
            <a:off x="1981080" y="609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4:09:01Z</dcterms:created>
  <dc:creator>Valued Acer Customer</dc:creator>
  <dc:description/>
  <dc:language>en-US</dc:language>
  <cp:lastModifiedBy>Valued Acer Customer</cp:lastModifiedBy>
  <dcterms:modified xsi:type="dcterms:W3CDTF">2010-04-27T14:13:58Z</dcterms:modified>
  <cp:revision>1</cp:revision>
  <dc:subject/>
  <dc:title>test</dc:title>
</cp:coreProperties>
</file>