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A4DA-076B-45EA-AF03-8A66C1B05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6E1F-411A-4CC7-A005-BF9FE604E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9A45-892A-4582-B63E-91807A0BD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2F6F-A1FB-4893-BB87-AF90A2C72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5F4-CE34-4D59-8A93-40F38AEF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D51-CEF7-4793-9E08-94157DA1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5E9-2D34-4A5B-A428-03DB3078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467-E1B3-4E84-AC77-E9F9E8A8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585-EC72-4062-A878-FB4D7F77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043-56A9-42E0-ADD3-92B925AA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C1C-621B-454E-B47E-BD9E1C35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280-F8F8-4A18-875C-F1226AB5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B87-237A-48BF-9F33-9E50FED5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2E0-09D6-43AB-856B-CCD0AEA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22A-833E-4A5D-AD25-30CF6EA6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738-3DCF-4023-AB41-3D46D79B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8F9A-DB6C-4F3E-BBD2-9B7ABC5F1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2/Homer_Simpson_2006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76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335720" y="55450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higher resolution available.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mer_Simpson_2006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‎ (239 × 391 pixels, file size: 50 KB, MIME type: image/p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Ben Rothschild\My Documents\My Pictures\simpsonsBackL.jpg"/>
          <p:cNvPicPr/>
          <p:nvPr/>
        </p:nvPicPr>
        <p:blipFill>
          <a:blip r:embed="rId2"/>
          <a:stretch/>
        </p:blipFill>
        <p:spPr>
          <a:xfrm>
            <a:off x="1981080" y="609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4:09:01Z</dcterms:created>
  <dc:creator>Valued Acer Customer</dc:creator>
  <dc:description/>
  <dc:language>en-US</dc:language>
  <cp:lastModifiedBy>Valued Acer Customer</cp:lastModifiedBy>
  <dcterms:modified xsi:type="dcterms:W3CDTF">2010-04-27T14:13:58Z</dcterms:modified>
  <cp:revision>1</cp:revision>
  <dc:subject/>
  <dc:title>test</dc:title>
</cp:coreProperties>
</file>