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CEA7-4FA5-4EDD-A195-F78BEA2C2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4DD-299B-4EC1-B6D9-97587B52C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F58-5EB3-44E6-B1B5-7170FA34C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A498-BD6B-4EAA-B68E-2EE860B12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E90-5F8D-4EEA-A287-4CA9FC23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DC6-AB94-4CF7-876A-594BC61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4DF-F18A-4E76-BAA8-4BA48B0C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75E-E431-49E5-935A-E051A07C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8BA-65CE-4E13-9BAE-7537868D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1D0-BFB2-4443-A521-48598D4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AA2-CFB2-4626-8E33-BB22325B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2ED-2A54-44B5-836B-16A8ECC3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37D-F5B0-4E64-ABE6-A777C25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6EB-2F6A-4D8C-A668-C127BB68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6AA-D849-4C6D-A63F-CBF726D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71C-3CBD-468F-A7AE-0BDD784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D2B-8D77-4E7D-8E2C-8AAD2A8F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2/Homer_Simpson_2006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335720" y="55450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higher resolution available.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mer_Simpson_2006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‎ (239 × 391 pixels, file size: 50 KB, MIME type: image/p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en Rothschild\My Documents\My Pictures\simpsonsBackL.jpg"/>
          <p:cNvPicPr/>
          <p:nvPr/>
        </p:nvPicPr>
        <p:blipFill>
          <a:blip r:embed="rId2"/>
          <a:stretch/>
        </p:blipFill>
        <p:spPr>
          <a:xfrm>
            <a:off x="1981080" y="609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9:01Z</dcterms:created>
  <dc:creator>Valued Acer Customer</dc:creator>
  <dc:description/>
  <dc:language>en-US</dc:language>
  <cp:lastModifiedBy>Valued Acer Customer</cp:lastModifiedBy>
  <dcterms:modified xsi:type="dcterms:W3CDTF">2010-04-27T14:13:58Z</dcterms:modified>
  <cp:revision>1</cp:revision>
  <dc:subject/>
  <dc:title>test</dc:title>
</cp:coreProperties>
</file>