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AF81-2E0F-4707-BE90-A893F5A68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019-B033-494E-80D9-B854D6185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C5E1-557D-4D2F-BC29-4F6A5E1BB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327C-5EED-4DBF-A075-E98DA36A8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76F-C77E-4531-9E52-2FB32D57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A57-4EFC-4B70-9C83-5664DCFD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CFD-58F6-4D0A-A5C3-14453677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FA7-C0E8-4A13-A4BE-5DB9BC10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FC2-9B3C-419D-B710-67C4D22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C39-D9F6-4302-8748-9A82C398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D62-BC46-451E-95BB-3941B0F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56C-8A59-41E4-9CDC-F9D9A6C2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AE9-D9BF-4F27-B18E-481CEFC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BB8-DE74-4FF0-8A6C-55638CA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2EE-F0FF-42DA-BEE3-1C605AC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63D-A705-440E-A5C9-18B6DF6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D81-C1C6-4D6A-8075-D7446443E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2/Homer_Simpson_2006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335720" y="55450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higher resolution available.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mer_Simpson_2006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‎ (239 × 391 pixels, file size: 50 KB, MIME type: image/p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en Rothschild\My Documents\My Pictures\simpsonsBackL.jpg"/>
          <p:cNvPicPr/>
          <p:nvPr/>
        </p:nvPicPr>
        <p:blipFill>
          <a:blip r:embed="rId2"/>
          <a:stretch/>
        </p:blipFill>
        <p:spPr>
          <a:xfrm>
            <a:off x="1981080" y="609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9:01Z</dcterms:created>
  <dc:creator>Valued Acer Customer</dc:creator>
  <dc:description/>
  <dc:language>en-US</dc:language>
  <cp:lastModifiedBy>Valued Acer Customer</cp:lastModifiedBy>
  <dcterms:modified xsi:type="dcterms:W3CDTF">2010-04-27T14:13:58Z</dcterms:modified>
  <cp:revision>1</cp:revision>
  <dc:subject/>
  <dc:title>test</dc:title>
</cp:coreProperties>
</file>