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D97F-703D-4153-8593-5FA0C281A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9125-28C2-43E1-9D89-B2F9FD73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48D2-8AD5-4D3B-B39D-1A5E4E982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95EC-6750-4102-91E0-E05A59F51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9666-4DBF-47D4-944C-6CF34FB9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E132-838B-49F1-A6F6-D4B05D31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070E-6B8B-4AAA-A8A9-2E4C38CF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8E51-D2A8-4671-AE03-AE3D392B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3EED-C0D5-4833-B3AD-850D896E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5698-A093-433E-9232-A3EA5139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E21E-9A87-479D-9681-1DDC8907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1F70-F07E-4D9A-88F3-028935F7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A30C-A923-4CD6-A575-5286A659D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2438280" y="-366840"/>
            <a:ext cx="10591560" cy="72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20 - 19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25 - Socialist Party founded, forming the structure for the Communist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26 - Fidel Castro - future communist leader was b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34 US abandons its right to intervene in Cuba’s internal affairs. The US changed its way to do business with Cu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20-19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1938 - Communist Party legaliz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41 - Declared war on Germany, Japan, and It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43 - Soviet Embassy opened in Hav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50-19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2 - Batista seizes power over an oppressive and corrupt r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3 - Fidel Castro leads an unsuccessful revolt again Bat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6 - Castro flights a guerrilla war in eastern Cuba with “Che” Guev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ban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9 - Castro leads a guerrilla army into Havana, removing Batista from offi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del Castro becomes prime min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ro’s brother, Raul, becomes 2nd in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” Guevera is thi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60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0 - US breaks off relations with Hav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1 - US sponsors an aborted “Bay of Pigs” inva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1 - Castro proclaims Cuba a communist state and is allies with USSR(Russ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505320" y="2874960"/>
            <a:ext cx="518148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60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2 - Cuban Missle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tro allows USSR to allow nuclear missiles on Cub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d panic in the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ere withdrawn when the US removed their nuclear missiles from Tur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5 - Renames Political party to the Cuban Communist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67280" y="0"/>
            <a:ext cx="327672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70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72 - Cuba becomes a full member of the Soviet Council for Mutual Economic As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76 - Fidel Castro becomes President of Cu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81- Costa Rica breaks off relations with Cu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89 - Cuba excutes four military officers for conspiring to smuggle drugs into the U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18:29:19Z</dcterms:created>
  <dc:creator>brian meeks</dc:creator>
  <dc:description/>
  <dc:language>en-US</dc:language>
  <cp:lastModifiedBy>brian meeks</cp:lastModifiedBy>
  <dcterms:modified xsi:type="dcterms:W3CDTF">2010-04-28T15:50:23Z</dcterms:modified>
  <cp:revision>5</cp:revision>
  <dc:subject/>
  <dc:title>CUBA</dc:title>
</cp:coreProperties>
</file>