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FF14-2BBB-48B2-9905-E1E4C8A2F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2B98-700F-4A9A-907D-BC9B92A5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ED3A-095C-4233-A224-FCE6DDBF1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A9DA-3353-4497-97EA-53A63BB2B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3D54-867F-4BD7-9769-05FD82E6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0840-4DCA-4E00-8A0E-1259C4A6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AF76-4077-4A39-960B-226341FE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A0C2-EBC2-4FA6-80A2-545B5708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B288-AF43-47C1-AFAF-19639443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5932-67F0-4C90-B892-88FEC150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FDC0-247F-4882-BD66-A87B5A7B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6BEC-53FA-4451-892B-00764828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0EFF-2AB7-4958-81B2-2CCE44112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2438280" y="-366840"/>
            <a:ext cx="10591560" cy="72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20 - 19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25 - Socialist Party founded, forming the structure for the Communist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26 - Fidel Castro - future communist leader was b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34 US abandons its right to intervene in Cuba’s internal affairs. The US changed its way to do business with Cu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20-19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1938 - Communist Party legaliz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41 - Declared war on Germany, Japan, and It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43 - Soviet Embassy opened in Hav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50-19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2 - Batista seizes power over an oppressive and corrupt r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3 - Fidel Castro leads an unsuccessful revolt again Bat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6 - Castro flights a guerrilla war in eastern Cuba with “Che” Guev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ban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9 - Castro leads a guerrilla army into Havana, removing Batista from offi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del Castro becomes prime min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ro’s brother, Raul, becomes 2nd in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” Guevera is thi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60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0 - US breaks off relations with Hav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1 - US sponsors an aborted “Bay of Pigs” inva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1 - Castro proclaims Cuba a communist state and is allies with USSR(Russ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505320" y="2874960"/>
            <a:ext cx="518148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60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2 - Cuban Missle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tro allows USSR to allow nuclear missiles on Cub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d panic in the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ere withdrawn when the US removed their nuclear missiles from Tur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5 - Renames Political party to the Cuban Communist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67280" y="0"/>
            <a:ext cx="327672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70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72 - Cuba becomes a full member of the Soviet Council for Mutual Economic As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76 - Fidel Castro becomes President of Cu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81- Costa Rica breaks off relations with Cu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89 - Cuba excutes four military officers for conspiring to smuggle drugs into the U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18:29:19Z</dcterms:created>
  <dc:creator>brian meeks</dc:creator>
  <dc:description/>
  <dc:language>en-US</dc:language>
  <cp:lastModifiedBy>brian meeks</cp:lastModifiedBy>
  <dcterms:modified xsi:type="dcterms:W3CDTF">2010-04-28T15:50:23Z</dcterms:modified>
  <cp:revision>5</cp:revision>
  <dc:subject/>
  <dc:title>CUBA</dc:title>
</cp:coreProperties>
</file>