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26C-72BA-40A4-82D0-B34A0B6F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9ED-54CD-4666-94B6-336C191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59A-FFDD-4E0B-98F1-45129EEF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BEE-C3A4-4138-B2FA-BD6ADE7F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A25-2FE2-407C-9832-658FF44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35E-28DA-402E-88AE-3512B35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70F-56A8-41FB-8A55-E1834FA4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88F-85BC-419F-8A9B-FEC45FB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94-5547-441C-A06C-AC56739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FB8-9BFF-4F99-9C64-8F8C086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877-7C61-473D-8556-6A61DA7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18F-47F3-4721-886D-BA12F1F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0D3-0707-4670-B105-4F9F2648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438280" y="-366840"/>
            <a:ext cx="1059156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05320" y="2874960"/>
            <a:ext cx="51814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1- Costa Rica breaks off relations with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Cuba excutes four military officers for conspiring to smuggle drugs into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brian meeks</cp:lastModifiedBy>
  <dcterms:modified xsi:type="dcterms:W3CDTF">2010-04-28T15:50:23Z</dcterms:modified>
  <cp:revision>5</cp:revision>
  <dc:subject/>
  <dc:title>CUBA</dc:title>
</cp:coreProperties>
</file>