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3A8-4ED0-469A-BD9F-3CE81987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2D-B0B8-434E-8FCB-62F9D7A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152-55CC-4A92-9C2D-9DDE4F35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908-E5E1-4D39-9EAA-7420218B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BD7-0443-440C-A566-EC77BB33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3F6-EE56-4FB2-910E-5C1E546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132-C6F8-4E93-97AB-7565A8D3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E78-9E3C-41C7-A62B-31E38295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45B-766D-4F84-BAD5-475D03FD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F52-62A0-429B-8B78-028972E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16A-69F8-4C7A-9982-164FB15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6F6-2A89-4BE6-97A9-BFF7810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CC5-7271-46FA-AD46-EF67C545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438280" y="-366840"/>
            <a:ext cx="1059156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05320" y="2874960"/>
            <a:ext cx="51814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1- Costa Rica breaks off relations with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Cuba excutes four military officers for conspiring to smuggle drugs into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brian meeks</cp:lastModifiedBy>
  <dcterms:modified xsi:type="dcterms:W3CDTF">2010-04-28T15:50:23Z</dcterms:modified>
  <cp:revision>5</cp:revision>
  <dc:subject/>
  <dc:title>CUBA</dc:title>
</cp:coreProperties>
</file>