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27.jpeg" ContentType="image/jpeg"/>
  <Override PartName="/ppt/media/image6.jpeg" ContentType="image/jpeg"/>
  <Override PartName="/ppt/media/image33.jpeg" ContentType="image/jpeg"/>
  <Override PartName="/ppt/media/image11.jpeg" ContentType="image/jpeg"/>
  <Override PartName="/ppt/media/image9.jpeg" ContentType="image/jpeg"/>
  <Override PartName="/ppt/media/image28.jpeg" ContentType="image/jpeg"/>
  <Override PartName="/ppt/media/image7.jpeg" ContentType="image/jpeg"/>
  <Override PartName="/ppt/media/image34.jpeg" ContentType="image/jpeg"/>
  <Override PartName="/ppt/media/image30.jpeg" ContentType="image/jpeg"/>
  <Override PartName="/ppt/media/image31.jpeg" ContentType="image/jpeg"/>
  <Override PartName="/ppt/media/image36.png" ContentType="image/png"/>
  <Override PartName="/ppt/media/image5.jpeg" ContentType="image/jpeg"/>
  <Override PartName="/ppt/media/image26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.png" ContentType="image/png"/>
  <Override PartName="/ppt/media/image25.jpeg" ContentType="image/jpeg"/>
  <Override PartName="/ppt/media/image32.png" ContentType="image/pn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5A5228-E77F-4D71-8C03-C6142C6EF8D5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A2CB76E-C1F2-4762-9344-D070F85D38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2F9D998-BA76-4083-B8D6-A9F800DEC8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485CA-958F-479E-BF9C-ADD9BE618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D1E4C-1283-4C60-BAC1-155D6EE52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E4439-A31B-44B4-9F4F-488E0FD36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0025E-896C-4E08-AC32-C4CA00113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62298-E91C-40CB-B0F2-E81BCE03F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09C18-99C6-4DCE-A829-EA464A054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05547-E545-4797-9DDE-3E381D262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2CCBB-577B-4986-BEA2-82CCE1DE3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21C70-0500-4954-89E5-8E3216153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9530A-C230-4FB2-8AFD-BFF4CB6AD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5EC0F-5763-48DE-9FAE-2A21C4473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CF71E-CABA-41CA-9B30-66A5AE2B4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2836E5F-E619-4F97-ABF1-9E55B4DE4466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EF1C809-C81A-4124-B3B2-8696BE46FB9F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52480" y="1195560"/>
            <a:ext cx="7391520" cy="119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c0504d"/>
                </a:solidFill>
                <a:latin typeface="Tahoma"/>
                <a:ea typeface="Tahoma"/>
              </a:rPr>
              <a:t>korea in the 20</a:t>
            </a:r>
            <a:r>
              <a:rPr b="0" lang="en-US" sz="4400" spc="-1" strike="noStrike" baseline="30000">
                <a:solidFill>
                  <a:srgbClr val="c0504d"/>
                </a:solidFill>
                <a:latin typeface="Tahoma"/>
                <a:ea typeface="Tahoma"/>
              </a:rPr>
              <a:t>th</a:t>
            </a:r>
            <a:r>
              <a:rPr b="0" lang="en-US" sz="4400" spc="-1" strike="noStrike">
                <a:solidFill>
                  <a:srgbClr val="c0504d"/>
                </a:solidFill>
                <a:latin typeface="Tahoma"/>
                <a:ea typeface="Tahoma"/>
              </a:rPr>
              <a:t> centu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800" spc="-1" strike="noStrike">
                <a:solidFill>
                  <a:srgbClr val="262626"/>
                </a:solidFill>
                <a:latin typeface="Calibri"/>
              </a:rPr>
              <a:t>from the japanese annexation and occupation to the present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3"/>
          <p:cNvSpPr/>
          <p:nvPr/>
        </p:nvSpPr>
        <p:spPr>
          <a:xfrm>
            <a:off x="3429000" y="2390760"/>
            <a:ext cx="548640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Goudy Old Style"/>
              </a:rPr>
              <a:t>ellen justu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4"/>
          <p:cNvSpPr/>
          <p:nvPr/>
        </p:nvSpPr>
        <p:spPr>
          <a:xfrm>
            <a:off x="3809880" y="6051600"/>
            <a:ext cx="533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bfbfbf"/>
                </a:solidFill>
                <a:latin typeface="Calibri"/>
              </a:rPr>
              <a:t>hwaseong fortress in suw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nd of annexation and world war i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tember 8th, 1945: American forces arrive in southern Korea, under General John R. Hod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lonel Dean Rusk and Charles Bonesteel: suggest split of Korea at 38th Parallel – DMZ official in 1948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Content Placeholder 18" descr="g348292.jpg"/>
          <p:cNvPicPr/>
          <p:nvPr/>
        </p:nvPicPr>
        <p:blipFill>
          <a:blip r:embed="rId1"/>
          <a:srcRect l="0" t="-1876" r="0" b="-1876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MZ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Content Placeholder 6" descr="DMZ.jpg"/>
          <p:cNvPicPr/>
          <p:nvPr/>
        </p:nvPicPr>
        <p:blipFill>
          <a:blip r:embed="rId1"/>
          <a:srcRect l="-17898" t="0" r="-17898" b="0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Content Placeholder 3" descr="DMZ-1.JPG"/>
          <p:cNvPicPr/>
          <p:nvPr/>
        </p:nvPicPr>
        <p:blipFill>
          <a:blip r:embed="rId1"/>
          <a:srcRect l="-18184" t="0" r="-18184" b="0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korean wa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Content Placeholder 8" descr="syngman-rhee-2.jpg"/>
          <p:cNvPicPr/>
          <p:nvPr/>
        </p:nvPicPr>
        <p:blipFill>
          <a:blip r:embed="rId1"/>
          <a:srcRect l="-71039" t="0" r="-71039" b="0"/>
          <a:stretch/>
        </p:blipFill>
        <p:spPr>
          <a:xfrm>
            <a:off x="4645080" y="1735200"/>
            <a:ext cx="3565440" cy="1920960"/>
          </a:xfrm>
          <a:prstGeom prst="rect">
            <a:avLst/>
          </a:prstGeom>
          <a:ln w="0">
            <a:noFill/>
          </a:ln>
        </p:spPr>
      </p:pic>
      <p:pic>
        <p:nvPicPr>
          <p:cNvPr id="89" name="Content Placeholder 9" descr="Kim_Il_Sung.jpg"/>
          <p:cNvPicPr/>
          <p:nvPr/>
        </p:nvPicPr>
        <p:blipFill>
          <a:blip r:embed="rId2"/>
          <a:srcRect l="-57910" t="0" r="-57910" b="0"/>
          <a:stretch/>
        </p:blipFill>
        <p:spPr>
          <a:xfrm>
            <a:off x="4645080" y="3870360"/>
            <a:ext cx="3565440" cy="192096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 txBox="1"/>
          <p:nvPr/>
        </p:nvSpPr>
        <p:spPr>
          <a:xfrm>
            <a:off x="914400" y="1734840"/>
            <a:ext cx="3565440" cy="405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June 15th, 1950: North Korean forces cross the parall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1950-53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Kim Il-sung, Syngman Rhe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oxy war” of the Cold Wa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actics: armored warfare, aerial warfare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merican and Chinese interventions Bombing of North Korea by the U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korean war, cont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2193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Total civilians killed/wounded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2.5 million (est.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outh Korean civilians killed/wounded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990,968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73,599 kill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29,625 wound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87,744 abducted/miss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North Korean civilians killed/wounded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1,550,000 (est.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Content Placeholder 11" descr="Seoul_Battle-_Korean_War.jpg"/>
          <p:cNvPicPr/>
          <p:nvPr/>
        </p:nvPicPr>
        <p:blipFill>
          <a:blip r:embed="rId1"/>
          <a:srcRect l="0" t="-20374" r="0" b="-20374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icasso’s </a:t>
            </a:r>
            <a:r>
              <a:rPr b="0" i="1" lang="en-US" sz="4400" spc="-1" strike="noStrike">
                <a:solidFill>
                  <a:srgbClr val="000000"/>
                </a:solidFill>
                <a:latin typeface="Calibri"/>
              </a:rPr>
              <a:t>Massacre in Kore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Content Placeholder 6" descr="Picasso_Massacre_in_Korea.jpg"/>
          <p:cNvPicPr/>
          <p:nvPr/>
        </p:nvPicPr>
        <p:blipFill>
          <a:blip r:embed="rId1"/>
          <a:srcRect l="0" t="-183" r="0" b="-183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uth korea in the 1960’s – 80’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gman Rhee – autocratic, term ended w/ student revolt in 196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pril Revolu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signation on April 26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alibri"/>
              </a:rPr>
              <a:t>대한민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Content Placeholder 5" descr="4.19운동.jpg"/>
          <p:cNvPicPr/>
          <p:nvPr/>
        </p:nvPicPr>
        <p:blipFill>
          <a:blip r:embed="rId1"/>
          <a:srcRect l="0" t="-23234" r="0" b="-23234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uth korea in the 1960’s – 80’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Content Placeholder 4" descr="61895-050-EC542358.jpg"/>
          <p:cNvPicPr/>
          <p:nvPr/>
        </p:nvPicPr>
        <p:blipFill>
          <a:blip r:embed="rId1"/>
          <a:srcRect l="-11167" t="0" r="-11167" b="0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Republic of Kore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binet system, Yun Po Sun; Chang My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nion membershi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nded in a military cou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uth korea in the 1960’s – 80’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Republic w/ Park Chunghe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stitutional amendment made for third ter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lations w/ Jap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Korea joined Vietnam War w/ U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cember 6, 1971: state of national emergenc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Republic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Yusin Constitu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Republic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rk assassinated in 1979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up d’ét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ifth republic, cont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-360" y="1735200"/>
            <a:ext cx="3730680" cy="192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Gwangju Democratization Movemen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07 death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ay 18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198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Content Placeholder 11" descr="1118502176_05.jpg"/>
          <p:cNvPicPr/>
          <p:nvPr/>
        </p:nvPicPr>
        <p:blipFill>
          <a:blip r:embed="rId1"/>
          <a:srcRect l="0" t="-5349" r="0" b="-5349"/>
          <a:stretch/>
        </p:blipFill>
        <p:spPr>
          <a:xfrm>
            <a:off x="457200" y="3459240"/>
            <a:ext cx="3809880" cy="2987640"/>
          </a:xfrm>
          <a:prstGeom prst="rect">
            <a:avLst/>
          </a:prstGeom>
          <a:ln w="0">
            <a:noFill/>
          </a:ln>
        </p:spPr>
      </p:pic>
      <p:pic>
        <p:nvPicPr>
          <p:cNvPr id="107" name="Content Placeholder 10" descr="1118501968_67.jpg"/>
          <p:cNvPicPr/>
          <p:nvPr/>
        </p:nvPicPr>
        <p:blipFill>
          <a:blip r:embed="rId2"/>
          <a:srcRect l="-16625" t="0" r="-16625" b="0"/>
          <a:stretch/>
        </p:blipFill>
        <p:spPr>
          <a:xfrm>
            <a:off x="3730680" y="1735200"/>
            <a:ext cx="5976720" cy="32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verview of korea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Content Placeholder 13" descr="south_korea.png"/>
          <p:cNvPicPr/>
          <p:nvPr/>
        </p:nvPicPr>
        <p:blipFill>
          <a:blip r:embed="rId1"/>
          <a:srcRect l="-11830" t="0" r="-11830" b="0"/>
          <a:stretch/>
        </p:blipFill>
        <p:spPr>
          <a:xfrm>
            <a:off x="4645080" y="1735200"/>
            <a:ext cx="3565440" cy="1920960"/>
          </a:xfrm>
          <a:prstGeom prst="rect">
            <a:avLst/>
          </a:prstGeom>
          <a:ln w="0">
            <a:noFill/>
          </a:ln>
        </p:spPr>
      </p:pic>
      <p:pic>
        <p:nvPicPr>
          <p:cNvPr id="54" name="Content Placeholder 14" descr="11626_North Korea3.gif"/>
          <p:cNvPicPr/>
          <p:nvPr/>
        </p:nvPicPr>
        <p:blipFill>
          <a:blip r:embed="rId2"/>
          <a:srcRect l="0" t="-3680" r="0" b="-3680"/>
          <a:stretch/>
        </p:blipFill>
        <p:spPr>
          <a:xfrm>
            <a:off x="4645080" y="3870360"/>
            <a:ext cx="3565440" cy="1920960"/>
          </a:xfrm>
          <a:prstGeom prst="rect">
            <a:avLst/>
          </a:prstGeom>
          <a:ln w="0">
            <a:noFill/>
          </a:ln>
        </p:spPr>
      </p:pic>
      <p:pic>
        <p:nvPicPr>
          <p:cNvPr id="55" name="Content Placeholder 15" descr="130.gif"/>
          <p:cNvPicPr/>
          <p:nvPr/>
        </p:nvPicPr>
        <p:blipFill>
          <a:blip r:embed="rId3"/>
          <a:srcRect l="-3911" t="0" r="-3911" b="0"/>
          <a:stretch/>
        </p:blipFill>
        <p:spPr>
          <a:xfrm>
            <a:off x="914400" y="1735200"/>
            <a:ext cx="3565440" cy="40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xth republi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ost-June Democracy Move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oh Tae-woo elected: 198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992: Kim Young-sa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997: Financial crisi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998: Kim Dae-ju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nshine Policy” w/ Kim Jong-il, Nobel Peace Priz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oh Moo-hyu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N Secretary-General: Ban Ki-mo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Content Placeholder 10" descr="dae-jung_lecture_photo.jpg"/>
          <p:cNvPicPr/>
          <p:nvPr/>
        </p:nvPicPr>
        <p:blipFill>
          <a:blip r:embed="rId1"/>
          <a:srcRect l="-8629" t="0" r="-8629" b="0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n ki-mo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Content Placeholder 10" descr="Ban_Ki-moon_by_UNDP.jpg"/>
          <p:cNvPicPr/>
          <p:nvPr/>
        </p:nvPicPr>
        <p:blipFill>
          <a:blip r:embed="rId1"/>
          <a:srcRect l="-92380" t="0" r="-92380" b="0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rrent presiden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Content Placeholder 6" descr="attachment.jpg"/>
          <p:cNvPicPr/>
          <p:nvPr/>
        </p:nvPicPr>
        <p:blipFill>
          <a:blip r:embed="rId1"/>
          <a:srcRect l="-13182" t="0" r="-13182" b="0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rth korea, 1960’s - pres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Content Placeholder 5" descr="Vladimir_Putin_with_Kim_Jong-Il-4.jpg"/>
          <p:cNvPicPr/>
          <p:nvPr/>
        </p:nvPicPr>
        <p:blipFill>
          <a:blip r:embed="rId1"/>
          <a:srcRect l="0" t="-33879" r="0" b="-33879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 txBox="1"/>
          <p:nvPr/>
        </p:nvSpPr>
        <p:spPr>
          <a:xfrm>
            <a:off x="4648320" y="23320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ill officially at war w/ South Kore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alibri"/>
              </a:rPr>
              <a:t>조선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osu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ssassination attempts – 1964, 1974, Rangoon Bomb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xe murder incid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Content Placeholder 7" descr="800px-Bridge_of_No_Return-a.jpg"/>
          <p:cNvPicPr/>
          <p:nvPr/>
        </p:nvPicPr>
        <p:blipFill>
          <a:blip r:embed="rId1"/>
          <a:srcRect l="-12166" t="0" r="-12166" b="0"/>
          <a:stretch/>
        </p:blipFill>
        <p:spPr>
          <a:xfrm>
            <a:off x="4645080" y="1735200"/>
            <a:ext cx="3565440" cy="1920960"/>
          </a:xfrm>
          <a:prstGeom prst="rect">
            <a:avLst/>
          </a:prstGeom>
          <a:ln w="0">
            <a:noFill/>
          </a:ln>
        </p:spPr>
      </p:pic>
      <p:pic>
        <p:nvPicPr>
          <p:cNvPr id="120" name="Content Placeholder 8" descr="766px-North_Korean_Axe_Murderers_at_DMZ_-_1976.jpg"/>
          <p:cNvPicPr/>
          <p:nvPr/>
        </p:nvPicPr>
        <p:blipFill>
          <a:blip r:embed="rId2"/>
          <a:srcRect l="-22683" t="0" r="-22683" b="0"/>
          <a:stretch/>
        </p:blipFill>
        <p:spPr>
          <a:xfrm>
            <a:off x="4645080" y="3870360"/>
            <a:ext cx="3565440" cy="192096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 txBox="1"/>
          <p:nvPr/>
        </p:nvSpPr>
        <p:spPr>
          <a:xfrm>
            <a:off x="914400" y="1734840"/>
            <a:ext cx="3565440" cy="405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ugust 18, 1976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oplar tree in way of UNC (United Nations Command) checkpoint and observation pos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nior Lt. Park Chu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apt. Bonif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ubs and crowba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KPA forces attacked Capt. Bonifas and Lt. Barrett w/ ax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Kim Jong-il’s statement –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“unprovoked attack by Americans on North Koreans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rth korea and south korea, pres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uth Korean ship sunk off North Korean wa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46 dead and/or miss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rth Korean nuclear program: fuel for at least eight weapons, including bomb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ranium enrichment program – circa June 2009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icide bombing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merican journalists in North Kore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Content Placeholder 3" descr="art.clinton.il.afp.gi.jpg"/>
          <p:cNvPicPr/>
          <p:nvPr/>
        </p:nvPicPr>
        <p:blipFill>
          <a:blip r:embed="rId1"/>
          <a:srcRect l="-18172" t="0" r="-18172" b="0"/>
          <a:stretch/>
        </p:blipFill>
        <p:spPr>
          <a:xfrm>
            <a:off x="457200" y="99072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rth kore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Content Placeholder 7" descr="Picture 1.png"/>
          <p:cNvPicPr/>
          <p:nvPr/>
        </p:nvPicPr>
        <p:blipFill>
          <a:blip r:embed="rId1"/>
          <a:srcRect l="-16974" t="0" r="-16974" b="0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127" name="TextBox 8"/>
          <p:cNvSpPr/>
          <p:nvPr/>
        </p:nvSpPr>
        <p:spPr>
          <a:xfrm>
            <a:off x="5867280" y="6126120"/>
            <a:ext cx="281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age copyright of National Geograph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rth korean refugee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Content Placeholder 9" descr="photo04.jpg"/>
          <p:cNvPicPr/>
          <p:nvPr/>
        </p:nvPicPr>
        <p:blipFill>
          <a:blip r:embed="rId1"/>
          <a:srcRect l="-64822" t="0" r="-64822" b="0"/>
          <a:stretch/>
        </p:blipFill>
        <p:spPr>
          <a:xfrm>
            <a:off x="914400" y="1735200"/>
            <a:ext cx="3565440" cy="1920960"/>
          </a:xfrm>
          <a:prstGeom prst="rect">
            <a:avLst/>
          </a:prstGeom>
          <a:ln w="0">
            <a:noFill/>
          </a:ln>
        </p:spPr>
      </p:pic>
      <p:pic>
        <p:nvPicPr>
          <p:cNvPr id="130" name="Content Placeholder 10" descr="photo02.jpg"/>
          <p:cNvPicPr/>
          <p:nvPr/>
        </p:nvPicPr>
        <p:blipFill>
          <a:blip r:embed="rId2"/>
          <a:srcRect l="-14217" t="0" r="-14217" b="0"/>
          <a:stretch/>
        </p:blipFill>
        <p:spPr>
          <a:xfrm>
            <a:off x="914400" y="3656160"/>
            <a:ext cx="3565440" cy="19191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 txBox="1"/>
          <p:nvPr/>
        </p:nvSpPr>
        <p:spPr>
          <a:xfrm>
            <a:off x="4876920" y="1626840"/>
            <a:ext cx="3565440" cy="405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assage from China to Thailan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olitical sanctuary in Thailand, USA, South Kore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ossible shooting for religion in North Kore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orth Korea to Yanji, China, to Beijing, Yunnan, Laos, Thailand – application for asylu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kdo controvers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Content Placeholder 8" descr="a945b742800f04628547851240625ac3.jpg"/>
          <p:cNvPicPr/>
          <p:nvPr/>
        </p:nvPicPr>
        <p:blipFill>
          <a:blip r:embed="rId1"/>
          <a:srcRect l="-21073" t="0" r="-21073" b="0"/>
          <a:stretch/>
        </p:blipFill>
        <p:spPr>
          <a:xfrm>
            <a:off x="4645080" y="1735200"/>
            <a:ext cx="3565440" cy="1920960"/>
          </a:xfrm>
          <a:prstGeom prst="rect">
            <a:avLst/>
          </a:prstGeom>
          <a:ln w="0">
            <a:noFill/>
          </a:ln>
        </p:spPr>
      </p:pic>
      <p:pic>
        <p:nvPicPr>
          <p:cNvPr id="134" name="Content Placeholder 9" descr="dokdo_002.gif"/>
          <p:cNvPicPr/>
          <p:nvPr/>
        </p:nvPicPr>
        <p:blipFill>
          <a:blip r:embed="rId2"/>
          <a:srcRect l="-18231" t="0" r="-18231" b="0"/>
          <a:stretch/>
        </p:blipFill>
        <p:spPr>
          <a:xfrm>
            <a:off x="4645080" y="3870360"/>
            <a:ext cx="3565440" cy="192096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 txBox="1"/>
          <p:nvPr/>
        </p:nvSpPr>
        <p:spPr>
          <a:xfrm>
            <a:off x="914400" y="2285640"/>
            <a:ext cx="3565440" cy="405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Calibri"/>
              </a:rPr>
              <a:t>독도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(Dokdo) or </a:t>
            </a:r>
            <a:r>
              <a:rPr b="0" lang="ja-JP" sz="2200" spc="-1" strike="noStrike">
                <a:solidFill>
                  <a:srgbClr val="000000"/>
                </a:solidFill>
                <a:latin typeface="Calibri"/>
              </a:rPr>
              <a:t>竹島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(Takeshima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Liancourt Rock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outh Korea in official contro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Japan still lays claim, puts it in textbook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verview, cont: korea as a who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914400" y="1734840"/>
            <a:ext cx="3565440" cy="405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onarchical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Japanese invasion against Joseon Dynasty – 1590’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Yi Sunsin – turtle ship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1636: post-Manchurian invasion, Korea chooses isol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Content Placeholder 7" descr="122488-004-D84D3B98.jpg"/>
          <p:cNvPicPr/>
          <p:nvPr/>
        </p:nvPicPr>
        <p:blipFill>
          <a:blip r:embed="rId1"/>
          <a:srcRect l="-1561" t="0" r="-1561" b="0"/>
          <a:stretch/>
        </p:blipFill>
        <p:spPr>
          <a:xfrm>
            <a:off x="4645080" y="1417680"/>
            <a:ext cx="3565440" cy="483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u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ee, Ki-baik, Ki-baek Yi, and Edward W. Wagner.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A New History of Kore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 N.p.: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     Ilchokak, Seoul; Harvard University Press (American edition), 1984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obinson, Michael E.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Korea's Twentieth-Century Odyssey: a Short HIstor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 N.p.: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     University of Hawai'i Press, 2007.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Google Book Search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 Web. 22 Apr. 2010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"History of Korea: Pre-20th Century."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Life in Kore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 N.p., n.d. Web. 27 Apr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     2010. &lt;http://www.lifeinkorea.com/information/history1.cfm&gt;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urces, cont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ells, Kenneth M. (1989).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Background to the March First Movement: Koreans in Japan, 1905-1919.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 Korean Studies, V. 13, 1989. pp. 1–21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berdorfer, Don (2002),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The Two Koreas: A Contemporary History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(Revised and Updated ed.), Basic Books, pp. 140–142,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ISBN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978-046505162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^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Kirkbride, Wayne (1984).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DMZ, a story of the Panmunjom axe murder.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Hollym International Corp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Kim, Kwang-Tae (2009-06-13).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"North Korea Vows Nuclear Step-Up"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 Associated Press.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http://news.aol.com/article/north-korea-nuclear-program/506625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 Retrieved 2009-06-14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urces, cont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U.S. journalists head home from North Korea"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. CNN.com.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http://www.cnn.com/2009/WORLD/asiapcf/08/04/nkorea.clinton/index.html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. Retrieved 2010-01-02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http://afp.google.com/article/ALeqM5hWkGA3-H4Fl_nZXqJpfd5TN9v8xg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-- AFP, July 30th, 2008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O'Neill, Tom. "Escaping North Korea."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National Geographic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. National Geographic,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     n.d. Web. 2 May 2010. &lt;http://ngm.nationalgeographic.com/2009/02/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     north-korea/oneill-text/12&gt;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korea, pre-1920’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Content Placeholder 5" descr="Kojong+and+his+family.jpg"/>
          <p:cNvPicPr/>
          <p:nvPr/>
        </p:nvPicPr>
        <p:blipFill>
          <a:blip r:embed="rId1"/>
          <a:srcRect l="-14958" t="0" r="-14958" b="0"/>
          <a:stretch/>
        </p:blipFill>
        <p:spPr>
          <a:xfrm>
            <a:off x="4645080" y="1735200"/>
            <a:ext cx="3565440" cy="1920960"/>
          </a:xfrm>
          <a:prstGeom prst="rect">
            <a:avLst/>
          </a:prstGeom>
          <a:ln w="0">
            <a:noFill/>
          </a:ln>
        </p:spPr>
      </p:pic>
      <p:pic>
        <p:nvPicPr>
          <p:cNvPr id="61" name="Content Placeholder 6" descr="0015_l.jpg"/>
          <p:cNvPicPr/>
          <p:nvPr/>
        </p:nvPicPr>
        <p:blipFill>
          <a:blip r:embed="rId2"/>
          <a:srcRect l="-70997" t="0" r="-70997" b="0"/>
          <a:stretch/>
        </p:blipFill>
        <p:spPr>
          <a:xfrm>
            <a:off x="4021200" y="3870360"/>
            <a:ext cx="5122800" cy="27590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 txBox="1"/>
          <p:nvPr/>
        </p:nvSpPr>
        <p:spPr>
          <a:xfrm>
            <a:off x="914400" y="1734840"/>
            <a:ext cx="3565440" cy="405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1876: Kanghwa Treaty between Choseon and Meiji governmen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riple Intervention of 1895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1904-05: Russo-Japanese Wa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1905: Japan-Korean Protection Treat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1907 – Japan takes contro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1910: Korean proclamation announcing Japanese annex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korea, pre-1920’s (cont.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Content Placeholder 8" descr="ec82bcec9dbcec9ab4eb8f991.jpg"/>
          <p:cNvPicPr/>
          <p:nvPr/>
        </p:nvPicPr>
        <p:blipFill>
          <a:blip r:embed="rId1"/>
          <a:srcRect l="-4212" t="0" r="-4212" b="0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rch 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s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Movem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rch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191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claration of Independe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Korean figures: 46,948 arrested, 7,509 killed, 15,961 wound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Japanese: 8,437 arrested, 553 killed and 1,409 wounded (Wagner, 1080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korea, 1920’s – 1940’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J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panese annex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ost-March 1st Movement – freedom of press permitted, civilian poli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Choson Ilbo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Dong-a Ilbo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published – 192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Dongnipgu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(Liberation Army) in Manchuria – Japanese Invasion of Manchuria in 193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Content Placeholder 29" descr="ijainfantryinmanchuria1.jpg"/>
          <p:cNvPicPr/>
          <p:nvPr/>
        </p:nvPicPr>
        <p:blipFill>
          <a:blip r:embed="rId1"/>
          <a:srcRect l="0" t="-63923" r="0" b="-63923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Placeholder 7" descr="'modern boy' 1930 11 29 chosun ilbo.jpg"/>
          <p:cNvPicPr/>
          <p:nvPr/>
        </p:nvPicPr>
        <p:blipFill>
          <a:blip r:embed="rId1"/>
          <a:srcRect l="-21481" t="0" r="-21481" b="0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From the Chosun Ilbo, Nov. 29, 193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the “modern boy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korea, 1920’s – 1940’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23320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wangju Students Anti-Japanese Movement – November 3rd, 1929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illages driven into public buildings and burned (Wagner, 344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Content Placeholder 4" descr="keijo04.jpg"/>
          <p:cNvPicPr/>
          <p:nvPr/>
        </p:nvPicPr>
        <p:blipFill>
          <a:blip r:embed="rId1"/>
          <a:srcRect l="0" t="-38361" r="0" b="-3836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korea, 1920’s-40’s, cont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Korean Liberation Arm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Content Placeholder 13" descr="Korean_Liberation_Army.JPG"/>
          <p:cNvPicPr/>
          <p:nvPr/>
        </p:nvPicPr>
        <p:blipFill>
          <a:blip r:embed="rId1"/>
          <a:srcRect l="0" t="-22001" r="0" b="-22001"/>
          <a:stretch/>
        </p:blipFill>
        <p:spPr>
          <a:xfrm>
            <a:off x="457200" y="2174760"/>
            <a:ext cx="4040280" cy="395136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Bombing of Hiroshim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Content Placeholder 14" descr="hiroshima4.jpg"/>
          <p:cNvPicPr/>
          <p:nvPr/>
        </p:nvPicPr>
        <p:blipFill>
          <a:blip r:embed="rId2"/>
          <a:srcRect l="0" t="-28301" r="0" b="-28301"/>
          <a:stretch/>
        </p:blipFill>
        <p:spPr>
          <a:xfrm>
            <a:off x="4645080" y="2174760"/>
            <a:ext cx="4041720" cy="395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3T00:46:18Z</dcterms:created>
  <dc:creator>Ellen Justus</dc:creator>
  <dc:description/>
  <dc:language>en-US</dc:language>
  <cp:lastModifiedBy>Ellen Justus</cp:lastModifiedBy>
  <dcterms:modified xsi:type="dcterms:W3CDTF">2010-05-03T01:56:17Z</dcterms:modified>
  <cp:revision>22</cp:revision>
  <dc:subject/>
  <dc:title>korea in the 20th century</dc:title>
</cp:coreProperties>
</file>