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482CF-5AF1-4B55-B8F6-E7228DE40B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D25FE-4E5A-4F57-86C9-39A8391E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192C7-655B-4C09-B1C2-98A8B4B6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333-4ADE-4805-94E7-2087EA4C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132-6EBB-4EA6-B2AC-45876689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155-DCD4-42C5-98BE-E553F6C2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268-A0C9-40D0-9DE4-57CFB78C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297-3333-43C8-96CB-01BB137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BAC-4A85-4425-BE67-2E56FCAA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26D-075B-4902-BDC4-6223905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455-A63E-42C2-9333-0CCEBBC0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6EA-8228-4E75-AAB5-4D3084D9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655-9E3F-42C2-819B-F241A15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238-0EA7-4ED2-8FE6-211E766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028-AF99-45AD-AC9E-7B4FE16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E83D3-EDE5-4842-907C-AFFA6A4D25E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78D31-FB7A-4FA3-8472-FEACCBD4A4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195560"/>
            <a:ext cx="73915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korea in the 20</a:t>
            </a:r>
            <a:r>
              <a:rPr b="0" lang="en-US" sz="4400" spc="-1" strike="noStrike" baseline="30000">
                <a:solidFill>
                  <a:srgbClr val="c0504d"/>
                </a:solidFill>
                <a:latin typeface="Tahoma"/>
                <a:ea typeface="Tahoma"/>
              </a:rPr>
              <a:t>th</a:t>
            </a: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262626"/>
                </a:solidFill>
                <a:latin typeface="Calibri"/>
              </a:rPr>
              <a:t>from the japanese annexation and occupation to the pres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429000" y="2390760"/>
            <a:ext cx="54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oudy Old Style"/>
              </a:rPr>
              <a:t>ellen just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9880" y="6051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hwaseong fortress in suw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annexation and world wa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8th, 1945: American forces arrive in southern Korea, under General John R. Ho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el Dean Rusk and Charles Bonesteel: suggest split of Korea at 38th Parallel – DMZ official in 19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18" descr="g348292.jpg"/>
          <p:cNvPicPr/>
          <p:nvPr/>
        </p:nvPicPr>
        <p:blipFill>
          <a:blip r:embed="rId1"/>
          <a:srcRect l="0" t="-1876" r="0" b="-187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6" descr="DMZ.jpg"/>
          <p:cNvPicPr/>
          <p:nvPr/>
        </p:nvPicPr>
        <p:blipFill>
          <a:blip r:embed="rId1"/>
          <a:srcRect l="-17898" t="0" r="-178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MZ-1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8" descr="syngman-rhee-2.jpg"/>
          <p:cNvPicPr/>
          <p:nvPr/>
        </p:nvPicPr>
        <p:blipFill>
          <a:blip r:embed="rId1"/>
          <a:srcRect l="-71039" t="0" r="-71039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9" descr="Kim_Il_Sung.jpg"/>
          <p:cNvPicPr/>
          <p:nvPr/>
        </p:nvPicPr>
        <p:blipFill>
          <a:blip r:embed="rId2"/>
          <a:srcRect l="-57910" t="0" r="-57910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5th, 1950: North Korean forces cross the paral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0-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m Il-sung, Syngman Rh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xy war” of the Cold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tics: armored warfare, aerial warf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erican and Chinese interventions Bombing of North Korea by the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2.5 million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 Korean civilians killed/woun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990,9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3,599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9,625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7,744 abducted/mi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rth Korean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,550,000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11" descr="Seoul_Battle-_Korean_War.jpg"/>
          <p:cNvPicPr/>
          <p:nvPr/>
        </p:nvPicPr>
        <p:blipFill>
          <a:blip r:embed="rId1"/>
          <a:srcRect l="0" t="-20374" r="0" b="-2037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asso’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ssacre in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6" descr="Picasso_Massacre_in_Korea.jpg"/>
          <p:cNvPicPr/>
          <p:nvPr/>
        </p:nvPicPr>
        <p:blipFill>
          <a:blip r:embed="rId1"/>
          <a:srcRect l="0" t="-183" r="0" b="-18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gman Rhee – autocratic, term ended w/ student revolt in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gnation on April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대한민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5" descr="4.19운동.jpg"/>
          <p:cNvPicPr/>
          <p:nvPr/>
        </p:nvPicPr>
        <p:blipFill>
          <a:blip r:embed="rId1"/>
          <a:srcRect l="0" t="-23234" r="0" b="-2323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61895-050-EC542358.jpg"/>
          <p:cNvPicPr/>
          <p:nvPr/>
        </p:nvPicPr>
        <p:blipFill>
          <a:blip r:embed="rId1"/>
          <a:srcRect l="-11167" t="0" r="-1116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ublic of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binet system, Yun Po Sun; Chang My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ed in a military c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Republic w/ Park Chung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itutional amendment made for third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 w/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ea joined Vietnam War w/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6, 1971: state of national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Re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si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Republi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 assassinated in 19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 d’é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republic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735200"/>
            <a:ext cx="37306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wangju Democratiz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7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1" descr="1118502176_05.jpg"/>
          <p:cNvPicPr/>
          <p:nvPr/>
        </p:nvPicPr>
        <p:blipFill>
          <a:blip r:embed="rId1"/>
          <a:srcRect l="0" t="-5349" r="0" b="-5349"/>
          <a:stretch/>
        </p:blipFill>
        <p:spPr>
          <a:xfrm>
            <a:off x="457200" y="3459240"/>
            <a:ext cx="38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0" descr="1118501968_67.jpg"/>
          <p:cNvPicPr/>
          <p:nvPr/>
        </p:nvPicPr>
        <p:blipFill>
          <a:blip r:embed="rId2"/>
          <a:srcRect l="-16625" t="0" r="-16625" b="0"/>
          <a:stretch/>
        </p:blipFill>
        <p:spPr>
          <a:xfrm>
            <a:off x="3730680" y="1735200"/>
            <a:ext cx="5976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kore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3" descr="south_korea.png"/>
          <p:cNvPicPr/>
          <p:nvPr/>
        </p:nvPicPr>
        <p:blipFill>
          <a:blip r:embed="rId1"/>
          <a:srcRect l="-11830" t="0" r="-11830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4" descr="11626_North Korea3.gif"/>
          <p:cNvPicPr/>
          <p:nvPr/>
        </p:nvPicPr>
        <p:blipFill>
          <a:blip r:embed="rId2"/>
          <a:srcRect l="0" t="-3680" r="0" b="-368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130.gif"/>
          <p:cNvPicPr/>
          <p:nvPr/>
        </p:nvPicPr>
        <p:blipFill>
          <a:blip r:embed="rId3"/>
          <a:srcRect l="-3911" t="0" r="-3911" b="0"/>
          <a:stretch/>
        </p:blipFill>
        <p:spPr>
          <a:xfrm>
            <a:off x="914400" y="1735200"/>
            <a:ext cx="3565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-June Democracy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Tae-woo elected: 19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2: Kim Young-s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7: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8: Kim Dae-j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shine Policy” w/ Kim Jong-il, Nobel Peace P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Moo-hy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 Secretary-General: Ban Ki-m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10" descr="dae-jung_lecture_photo.jpg"/>
          <p:cNvPicPr/>
          <p:nvPr/>
        </p:nvPicPr>
        <p:blipFill>
          <a:blip r:embed="rId1"/>
          <a:srcRect l="-8629" t="0" r="-862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10" descr="Ban_Ki-moon_by_UNDP.jpg"/>
          <p:cNvPicPr/>
          <p:nvPr/>
        </p:nvPicPr>
        <p:blipFill>
          <a:blip r:embed="rId1"/>
          <a:srcRect l="-92380" t="0" r="-923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presi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6" descr="attachment.jpg"/>
          <p:cNvPicPr/>
          <p:nvPr/>
        </p:nvPicPr>
        <p:blipFill>
          <a:blip r:embed="rId1"/>
          <a:srcRect l="-13182" t="0" r="-1318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, 196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5" descr="Vladimir_Putin_with_Kim_Jong-Il-4.jpg"/>
          <p:cNvPicPr/>
          <p:nvPr/>
        </p:nvPicPr>
        <p:blipFill>
          <a:blip r:embed="rId1"/>
          <a:srcRect l="0" t="-33879" r="0" b="-3387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fficially at war w/ South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조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assination attempts – 1964, 1974, Rangoon B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xe murder inci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800px-Bridge_of_No_Return-a.jpg"/>
          <p:cNvPicPr/>
          <p:nvPr/>
        </p:nvPicPr>
        <p:blipFill>
          <a:blip r:embed="rId1"/>
          <a:srcRect l="-12166" t="0" r="-12166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8" descr="766px-North_Korean_Axe_Murderers_at_DMZ_-_1976.jpg"/>
          <p:cNvPicPr/>
          <p:nvPr/>
        </p:nvPicPr>
        <p:blipFill>
          <a:blip r:embed="rId2"/>
          <a:srcRect l="-22683" t="0" r="-22683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8, 19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lar tree in way of UNC (United Nations Command) checkpoint and observation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Lt. Park Ch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. Bonif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ubs and crowb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PA forces attacked Capt. Bonifas and Lt. Barrett w/ 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 Jong-il’s statement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unprovoked attack by Americans on North Korea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 and south korea,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n ship sunk off North Korean w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 dead and/or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Korean nuclear program: fuel for at least eight weapons, including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nium enrichment program – circa Jun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icide bomb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journalists in Nor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art.clinton.il.afp.gi.jpg"/>
          <p:cNvPicPr/>
          <p:nvPr/>
        </p:nvPicPr>
        <p:blipFill>
          <a:blip r:embed="rId1"/>
          <a:srcRect l="-18172" t="0" r="-18172" b="0"/>
          <a:stretch/>
        </p:blipFill>
        <p:spPr>
          <a:xfrm>
            <a:off x="457200" y="990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Picture 1.png"/>
          <p:cNvPicPr/>
          <p:nvPr/>
        </p:nvPicPr>
        <p:blipFill>
          <a:blip r:embed="rId1"/>
          <a:srcRect l="-16974" t="0" r="-16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867280" y="6126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copyright of National Geo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n refuge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9" descr="photo04.jpg"/>
          <p:cNvPicPr/>
          <p:nvPr/>
        </p:nvPicPr>
        <p:blipFill>
          <a:blip r:embed="rId1"/>
          <a:srcRect l="-64822" t="0" r="-64822" b="0"/>
          <a:stretch/>
        </p:blipFill>
        <p:spPr>
          <a:xfrm>
            <a:off x="91440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10" descr="photo02.jpg"/>
          <p:cNvPicPr/>
          <p:nvPr/>
        </p:nvPicPr>
        <p:blipFill>
          <a:blip r:embed="rId2"/>
          <a:srcRect l="-14217" t="0" r="-14217" b="0"/>
          <a:stretch/>
        </p:blipFill>
        <p:spPr>
          <a:xfrm>
            <a:off x="914400" y="3656160"/>
            <a:ext cx="3565440" cy="191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76920" y="1626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age from China to Thai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tical sanctuary in Thailand, USA, Sou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shooting for religion in Nor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Korea to Yanji, China, to Beijing, Yunnan, Laos, Thailand – application for asy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do controver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8" descr="a945b742800f04628547851240625ac3.jpg"/>
          <p:cNvPicPr/>
          <p:nvPr/>
        </p:nvPicPr>
        <p:blipFill>
          <a:blip r:embed="rId1"/>
          <a:srcRect l="-21073" t="0" r="-21073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9" descr="dokdo_002.gif"/>
          <p:cNvPicPr/>
          <p:nvPr/>
        </p:nvPicPr>
        <p:blipFill>
          <a:blip r:embed="rId2"/>
          <a:srcRect l="-18231" t="0" r="-18231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22856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독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okdo) or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竹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keshi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ncourt Ro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Korea in official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 still lays claim, puts it in text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, cont: korea as a wh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arch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ese invasion against Joseon Dynasty – 1590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i Sunsin – turtle 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36: post-Manchurian invasion, Korea chooses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122488-004-D84D3B98.jpg"/>
          <p:cNvPicPr/>
          <p:nvPr/>
        </p:nvPicPr>
        <p:blipFill>
          <a:blip r:embed="rId1"/>
          <a:srcRect l="-1561" t="0" r="-1561" b="0"/>
          <a:stretch/>
        </p:blipFill>
        <p:spPr>
          <a:xfrm>
            <a:off x="4645080" y="1417680"/>
            <a:ext cx="356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, Ki-baik, Ki-baek Yi, and Edward W. Wagner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New History of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Ilchokak, Seoul; Harvard University Press (American edition),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inson, Michael 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rea's Twentieth-Century Odyssey: a Short HIs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University of Hawai'i Press, 2007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ogle Book 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eb. 22 Apr.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istory of Korea: Pre-20th Century.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fe in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, n.d. Web. 27 Ap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2010. &lt;http://www.lifeinkorea.com/information/history1.cf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ls, Kenneth M. (1989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kground to the March First Movement: Koreans in Japan, 1905-1919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Korean Studies, V. 13, 1989. pp. 1–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rdorfer, Don (2002)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wo Koreas: A Contemporary His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vised and Updated ed.), Basic Books, pp. 140–142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SB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78-04650516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rkbride, Wayne (1984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MZ, a story of the Panmunjom axe murde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llym International Cor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, Kwang-Tae (2009-06-13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"North Korea Vows Nuclear Step-U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Associated Pres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news.aol.com/article/north-korea-nuclear-program/5066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Retrieved 2009-06-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.S. journalists head home from North Korea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CNN.com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www.cnn.com/2009/WORLD/asiapcf/08/04/nkorea.clinton/index.ht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Retrieved 2010-01-0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afp.google.com/article/ALeqM5hWkGA3-H4Fl_nZXqJpfd5TN9v8x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- AFP, July 30th,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'Neill, Tom. "Escaping North Korea."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National Geographic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.d. Web. 2 May 2010. &lt;http://ngm.nationalgeographic.com/2009/02/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orth-korea/oneill-text/12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Kojong+and+his+family.jpg"/>
          <p:cNvPicPr/>
          <p:nvPr/>
        </p:nvPicPr>
        <p:blipFill>
          <a:blip r:embed="rId1"/>
          <a:srcRect l="-14958" t="0" r="-14958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0015_l.jpg"/>
          <p:cNvPicPr/>
          <p:nvPr/>
        </p:nvPicPr>
        <p:blipFill>
          <a:blip r:embed="rId2"/>
          <a:srcRect l="-70997" t="0" r="-70997" b="0"/>
          <a:stretch/>
        </p:blipFill>
        <p:spPr>
          <a:xfrm>
            <a:off x="4021200" y="3870360"/>
            <a:ext cx="5122800" cy="275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76: Kanghwa Treaty between Choseon and Meiji gover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ple Intervention of 189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4-05: Russo-Japanes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5: Japan-Korean Protection Tre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7 – Japan take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0: Korean proclamation announcing Japanese annex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8" descr="ec82bcec9dbcec9ab4eb8f991.jpg"/>
          <p:cNvPicPr/>
          <p:nvPr/>
        </p:nvPicPr>
        <p:blipFill>
          <a:blip r:embed="rId1"/>
          <a:srcRect l="-4212" t="0" r="-421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9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ean figures: 46,948 arrested, 7,509 killed, 15,961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ese: 8,437 arrested, 553 killed and 1,409 wounded (Wagner, 10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anese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March 1st Movement – freedom of press permitted, civilian po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oson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-a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– 19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nipg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Liberation Army) in Manchuria – Japanese Invasion of Manchuria in 19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29" descr="ijainfantryinmanchuria1.jpg"/>
          <p:cNvPicPr/>
          <p:nvPr/>
        </p:nvPicPr>
        <p:blipFill>
          <a:blip r:embed="rId1"/>
          <a:srcRect l="0" t="-63923" r="0" b="-6392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7" descr="'modern boy' 1930 11 29 chosun ilbo.jpg"/>
          <p:cNvPicPr/>
          <p:nvPr/>
        </p:nvPicPr>
        <p:blipFill>
          <a:blip r:embed="rId1"/>
          <a:srcRect l="-21481" t="0" r="-214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the Chosun Ilbo, Nov. 29, 19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“modern bo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wangju Students Anti-Japanese Movement – November 3rd, 19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llages driven into public buildings and burned (Wagner, 3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4" descr="keijo04.jpg"/>
          <p:cNvPicPr/>
          <p:nvPr/>
        </p:nvPicPr>
        <p:blipFill>
          <a:blip r:embed="rId1"/>
          <a:srcRect l="0" t="-38361" r="0" b="-3836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-40’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ean Liberation 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13" descr="Korean_Liberation_Army.JPG"/>
          <p:cNvPicPr/>
          <p:nvPr/>
        </p:nvPicPr>
        <p:blipFill>
          <a:blip r:embed="rId1"/>
          <a:srcRect l="0" t="-22001" r="0" b="-2200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mbing of Hirosh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4" descr="hiroshima4.jpg"/>
          <p:cNvPicPr/>
          <p:nvPr/>
        </p:nvPicPr>
        <p:blipFill>
          <a:blip r:embed="rId2"/>
          <a:srcRect l="0" t="-28301" r="0" b="-283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0:46:18Z</dcterms:created>
  <dc:creator>Ellen Justus</dc:creator>
  <dc:description/>
  <dc:language>en-US</dc:language>
  <cp:lastModifiedBy>Ellen Justus</cp:lastModifiedBy>
  <dcterms:modified xsi:type="dcterms:W3CDTF">2010-05-03T01:56:17Z</dcterms:modified>
  <cp:revision>22</cp:revision>
  <dc:subject/>
  <dc:title>korea in the 20th century</dc:title>
</cp:coreProperties>
</file>