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7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11.png" ContentType="image/png"/>
  <Override PartName="/ppt/media/image19.jpeg" ContentType="image/jpeg"/>
  <Override PartName="/ppt/media/image42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0FFD-C4C9-4493-B4C1-BFDADE7B1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09D9-78DE-4EA2-AD19-A9FE2941E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37A3-8106-42EB-8B1A-20EE65E3F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094D-B5B1-403A-951A-195B5016D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E3B4-1001-4FE5-BA35-2BBC2DCE1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B924-B732-4582-90B5-26B969EA4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1E80-A8B6-4AEE-ACA5-06FA39C4C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2639-F413-4CD7-AED4-9586152C2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4047-AB8C-48F8-B0B8-1A3764489D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6E45-2A1D-4F0D-88DB-1D73267AC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45EB-7E02-438F-934A-437002F40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99D7-270F-4B74-A0C3-2720D11A4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0DBE-52BC-4BFF-A0A4-E1A67379D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28EF-51E8-47C3-B58D-CD1E52A9E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5EB6-7DE5-4CF6-8744-D2305008E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C8ED-7D13-49C6-B299-CAA7BBEAB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27A3-53E3-45B4-BB19-2E653EE00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B493-8F92-453A-8ABE-C81A9C2D3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17C0-380A-406B-B9CA-F2CA377B4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8D61-64C5-4136-9CE3-BC898A193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356B-870A-4D0A-B393-987602D62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85C0-1818-4F1C-AEFD-30A63AAD7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754D-E4C5-47D6-B555-8089FEE32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FCF4-999C-4ADE-A357-90EF6A2A4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FB74-CF2E-4914-A206-490DB3B92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98F1-2155-49E3-BDCB-82F70E54F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4968-8A31-48A4-83C4-350E7CFA8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FAA2-CBB3-4728-91B6-1B9B24F16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B3B9-E5F0-4CF4-888E-3BAB4B699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D662-8D09-4E03-A97B-54D7FB77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ADC3-C325-478D-A2C0-7768F97E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DB98-7259-481D-BF4A-921E67E6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D884-821B-4958-8955-6CD9A6F7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56AE-255C-41D3-AD38-90E82DF4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8A5-290B-4634-8E90-795538EC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0F78-F026-49A0-B58C-1BBAB685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4AE8-7C53-4A5B-A5B0-95EEC00A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BFC9-41F1-49A3-9776-663F1B50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B39-56E7-4352-8E04-154302C6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0A62-F660-49CA-9F3A-7896318F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B6FC-3B29-4EF7-A36A-2C46D195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8B28-7278-439F-9842-FEE37BB12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Union_of_Soviet_Socialist_Republics_(orthographic_projection).svg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en.wikipedia.org/wiki/File:Coat_of_arms_of_the_Soviet_Union.svg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Bundesarchiv_Bild_183-B0628-0015-035,_Nikita_S._Chruchstschow.jpg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en.wikipedia.org/wiki/File:Nixon_and_khrushchev.jpg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Iron_Curtain_Final.sv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Soviet-R-12-nuclear-ballistic_missile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upload.wikimedia.org/wikipedia/commons/9/9a/Jupiter_IRBM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Reagan_and_Gorbachev_hold_discussions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Leonid_Bre&#382;n&#283;v_(Bundesarchiv).jpg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en.wikipedia.org/wiki/File:Ford_signing_accord_with_Brehznev,_November_24,_1974.jpg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ir_space_station_12_June_1998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en.wikipedia.org/wiki/File:Space_race1.jp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en.wikipedia.org/wiki/File:Sputnik1satellite.jpg" TargetMode="External"/><Relationship Id="rId6" Type="http://schemas.openxmlformats.org/officeDocument/2006/relationships/image" Target="../media/image22.jpeg"/><Relationship Id="rId7" Type="http://schemas.openxmlformats.org/officeDocument/2006/relationships/hyperlink" Target="http://en.wikipedia.org/wiki/File:Lunokhod_1.jpg" TargetMode="External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MiG-15_shot_down.jpg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Mortar_attack_on_Shigal_Tarna_garrison,_Kunar_Province,_87.jpg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en.wikipedia.org/wiki/File:August_1984_-_captured_field_guns_in_Jaji,_Paktia.jpg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en.wikipedia.org/wiki/File:Evstafiev-spetsnaz-prepare-for-mission.jpg" TargetMode="External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Russian_Revolution_of_1917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Chernobyl_Disaster.jpg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ikhail_Gorbachev_1987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en.wikipedia.org/wiki/File:Gorbachev_Bush_19900601.jpg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en.wikipedia.org/wiki/File:Russian_Federation_(orthographic_projection).svg" TargetMode="External"/><Relationship Id="rId3" Type="http://schemas.openxmlformats.org/officeDocument/2006/relationships/image" Target="../media/image34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Lenin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en.wikipedia.org/wiki/File:Lenin-office-1918.jpg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Soviet_Socialist_Republics_numbered_by_the_Soviet_constitution.png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Joseph_Stalin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Y-namNpMM8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Berlinermauer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File:Deutschland_Besatzungszonen_-_1945_1946.svg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USSI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n Rothschi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50’s-8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http://upload.wikimedia.org/wikipedia/commons/thumb/7/75/Union_of_Soviet_Socialist_Republics_%28orthographic_projection%29.svg/220px-Union_of_Soviet_Socialist_Republics_%28orthographic_projection%29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209680"/>
            <a:ext cx="464832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http://upload.wikimedia.org/wikipedia/commons/thumb/d/d6/Coat_of_arms_of_the_Soviet_Union.svg/85px-Coat_of_arms_of_the_Soviet_Union.sv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6094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ikita Khrushchev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53-Stalin dies- is denoun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sed rules-help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und space mi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cies cause Republics un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usted 196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A portrait shot of an older, bald man with bifocal glasses. He is wearing a blazer over a collared shirt and tie. In his hands, he is holding a set of papers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80240" y="1752480"/>
            <a:ext cx="2363760" cy="3173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A middle-aged man and an older one confer with each other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0400" y="4600440"/>
            <a:ext cx="216864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ld War and Arms R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49 test first Atomic 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.A.T.O. vs. Warsaw P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ban Missile Cr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96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ikita Khrushch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53 Hydrogen Bom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http://upload.wikimedia.org/wikipedia/commons/thumb/1/1f/Iron_Curtain_Final.svg/250px-Iron_Curtain_Final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2232000"/>
            <a:ext cx="40384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ld War civilian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520" y="17524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uss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od Shor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onomy collap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ving in fea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800600" y="1523880"/>
            <a:ext cx="3657600" cy="65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per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ing in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week food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upload.wikimedia.org/wikipedia/commons/thumb/9/9d/Soviet-R-12-nuclear-ballistic_missile.jpg/220px-Soviet-R-12-nuclear-ballistic_missi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294080"/>
            <a:ext cx="3809880" cy="2563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File:Jupiter IRBM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3805200"/>
            <a:ext cx="38210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ld War peace agre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63 Nuclear Test Ban Trea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72 SALT I Interim Agre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72 SALT I Anti-Ballistic Missile Trea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79 SALT II Trea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91 START Trea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http://upload.wikimedia.org/wikipedia/commons/thumb/6/66/Reagan_and_Gorbachev_hold_discussions.jpg/300px-Reagan_and_Gorbachev_hold_discussion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4087800"/>
            <a:ext cx="4114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onid Brezhne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uled 1964-198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ke over after Khrushch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reme Communist-dict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und Milit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troy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http://upload.wikimedia.org/wikipedia/commons/thumb/3/37/Leonid_Bre%C5%BEn%C4%9Bv_%28Bundesarchiv%29.jpg/225px-Leonid_Bre%C5%BEn%C4%9Bv_%28Bundesarchiv%2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81680" y="1295280"/>
            <a:ext cx="2143080" cy="3181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http://upload.wikimedia.org/wikipedia/commons/thumb/d/da/Ford_signing_accord_with_Brehznev%2C_November_24%2C_1974.jpg/200px-Ford_signing_accord_with_Brehznev%2C_November_24%2C_1974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0400" y="4648320"/>
            <a:ext cx="2689200" cy="1828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3429000" y="6477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ald F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pace R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57-first satell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61-Yuri Gagarin first man in sp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7" descr="http://upload.wikimedia.org/wikipedia/commons/thumb/7/78/Mir_space_station_12_June_1998.jpg/220px-Mir_space_station_12_June_199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4848120"/>
            <a:ext cx="2095560" cy="2009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http://upload.wikimedia.org/wikipedia/commons/thumb/7/74/Space_race1.jpg/300px-Space_race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3276720"/>
            <a:ext cx="2857680" cy="1171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http://upload.wikimedia.org/wikipedia/en/thumb/c/c3/Sputnik1satellite.jpg/220px-Sputnik1satellit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76920" y="2895480"/>
            <a:ext cx="2095560" cy="1714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http://upload.wikimedia.org/wikipedia/commons/thumb/2/2b/Lunokhod_1.jpg/220px-Lunokhod_1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29400" y="5162400"/>
            <a:ext cx="20955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ina and Ko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onomic A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chnical Expe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rder clas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id Korean war 1950-19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eaty of Good-Neighborliness and Friendly Co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http://upload.wikimedia.org/wikipedia/en/thumb/2/2e/MiG-15_shot_down.jpg/220px-MiG-15_shot_dow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4384800"/>
            <a:ext cx="32004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vasion of Afghanist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.I.A. invol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79-19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Mortar attack on Shigal Tarna garrison, Kunar Province, 87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295280"/>
            <a:ext cx="4419720" cy="3167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http://upload.wikimedia.org/wikipedia/commons/thumb/c/cd/August_1984_-_captured_field_guns_in_Jaji%2C_Paktia.jpg/200px-August_1984_-_captured_field_guns_in_Jaji%2C_Pakti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00600" y="4856040"/>
            <a:ext cx="3200400" cy="174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ttp://upload.wikimedia.org/wikipedia/commons/thumb/c/cf/Evstafiev-spetsnaz-prepare-for-mission.jpg/380px-Evstafiev-spetsnaz-prepare-for-missio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2743200"/>
            <a:ext cx="36194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is actually in your f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 packages (2 tablespoons) active dry yea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inch of sug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/2 cup warm water (105 to 115 degree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 cups wat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/4 cup molass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/4 cup apple cider vineg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4 tablespoons unsalted butt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1 ounce unsweetened chocola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/2 cup whole-wheat flou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cups medium rye flou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cups unbleached, all-purpose or bread flou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cup br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 tablespoons caraway see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/2 teaspoon fennel see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tablespoon sal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1 tablespoon instant espresso powd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1 tablespoon minced shallo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/4 cup cornme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tablespoon unbleached all-purpose flou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teaspoon caraway see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1371600"/>
            <a:ext cx="4343400" cy="533412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C:\Users\carol\AppData\Local\Microsoft\Windows\Temporary Internet Files\Low\Content.IE5\WG0HHE3S\spanish[1].tiff"/>
          <p:cNvPicPr/>
          <p:nvPr/>
        </p:nvPicPr>
        <p:blipFill>
          <a:blip r:embed="rId2"/>
          <a:stretch/>
        </p:blipFill>
        <p:spPr>
          <a:xfrm>
            <a:off x="4800600" y="2209680"/>
            <a:ext cx="3875040" cy="30481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4648320" y="2133720"/>
            <a:ext cx="4267080" cy="3200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ussian Revolution 1917-19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sar Nicholas II steps dow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aos and food shor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my wea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lshevik + Len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vernment (white) vs. Bolshevik Party (r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lied hel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upload.wikimedia.org/wikipedia/en/thumb/4/46/Russian_Revolution_of_1917.jpg/300px-Russian_Revolution_of_191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447920"/>
            <a:ext cx="2857680" cy="19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upload.wikimedia.org/wikipedia/commons/c/cc/Nikolaus_II._%28Russland%29.jpg"/>
          <p:cNvPicPr/>
          <p:nvPr/>
        </p:nvPicPr>
        <p:blipFill>
          <a:blip r:embed="rId3"/>
          <a:stretch/>
        </p:blipFill>
        <p:spPr>
          <a:xfrm>
            <a:off x="3657600" y="4226040"/>
            <a:ext cx="190512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80’s - Pres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chp_ussr_map_1.jpg"/>
          <p:cNvPicPr/>
          <p:nvPr/>
        </p:nvPicPr>
        <p:blipFill>
          <a:blip r:embed="rId1"/>
          <a:stretch/>
        </p:blipFill>
        <p:spPr>
          <a:xfrm>
            <a:off x="1295280" y="2362320"/>
            <a:ext cx="65962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ernobyl nuclear power pl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GB replaced by SV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msk 7 nuclear accid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$10.2 billion lo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ock market cras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Chernobyl Disaste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2247840"/>
            <a:ext cx="39625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khail Gorbache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85-199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versaw dismantling of Soviet Un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lp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lax censo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http://upload.wikimedia.org/wikipedia/commons/thumb/d/de/Mikhail_Gorbachev_1987.jpg/225px-Mikhail_Gorbachev_198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2819520"/>
            <a:ext cx="3581280" cy="3628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ttp://upload.wikimedia.org/wikipedia/commons/thumb/3/32/Gorbachev_Bush_19900601.jpg/220px-Gorbachev_Bush_1990060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4175280"/>
            <a:ext cx="396252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ltic States and end of U.S.S.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Riot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Russian Respon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Protest/Strik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August 8 199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Gorbachev kidnapped by traditional communist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Boris Yeltsi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asses call to release Gorbachev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http://upload.wikimedia.org/wikipedia/commons/thumb/6/65/Russian_Federation_%28orthographic_projection%29.svg/220px-Russian_Federation_%28orthographic_projection%29.svg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62720" y="39625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hp_ussr_map_1.jpg"/>
          <p:cNvPicPr/>
          <p:nvPr/>
        </p:nvPicPr>
        <p:blipFill>
          <a:blip r:embed="rId4"/>
          <a:stretch/>
        </p:blipFill>
        <p:spPr>
          <a:xfrm>
            <a:off x="4952880" y="4038480"/>
            <a:ext cx="3954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oris Yelst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rst President of Russia 1991-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98 Stock market cras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viously prominent political fig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http://upload.wikimedia.org/wikipedia/commons/9/9a/%D0%91%D0%BE%D1%80%D0%B8%D1%81_%D0%9D%D0%B8%D0%BA%D0%BE%D0%BB%D0%B0%D0%B5%D0%B2%D0%B8%D1%87_%D0%95%D0%BB%D1%8C%D1%86%D0%B8%D0%BD.jpg"/>
          <p:cNvPicPr/>
          <p:nvPr/>
        </p:nvPicPr>
        <p:blipFill>
          <a:blip r:embed="rId2"/>
          <a:stretch/>
        </p:blipFill>
        <p:spPr>
          <a:xfrm>
            <a:off x="6856560" y="3352680"/>
            <a:ext cx="2287440" cy="3505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ttp://upload.wikimedia.org/wikipedia/commons/thumb/5/5b/Boris_Yeltsin_with_Bill_Clinton-1.jpg/220px-Boris_Yeltsin_with_Bill_Clinton-1.jpg"/>
          <p:cNvPicPr/>
          <p:nvPr/>
        </p:nvPicPr>
        <p:blipFill>
          <a:blip r:embed="rId3"/>
          <a:stretch/>
        </p:blipFill>
        <p:spPr>
          <a:xfrm>
            <a:off x="2057400" y="4343400"/>
            <a:ext cx="3763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echn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90 Civil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y break away from Russ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99 Russian troops take control of Groz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rrorist atta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2 Th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4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5" descr="Map of Russia - Chechen Republic (2008-03).svg"/>
          <p:cNvPicPr/>
          <p:nvPr/>
        </p:nvPicPr>
        <p:blipFill>
          <a:blip r:embed="rId2"/>
          <a:stretch/>
        </p:blipFill>
        <p:spPr>
          <a:xfrm>
            <a:off x="3726000" y="3429000"/>
            <a:ext cx="5418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ladimir Put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sident in 2000 won with 70% of the vo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wer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ime Mini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ght Chechnya re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5" descr="http://upload.wikimedia.org/wikipedia/commons/thumb/a/a9/Vladimir_Putin_official_portrait.jpg/225px-Vladimir_Putin_official_portrait.jpg"/>
          <p:cNvPicPr/>
          <p:nvPr/>
        </p:nvPicPr>
        <p:blipFill>
          <a:blip r:embed="rId2"/>
          <a:stretch/>
        </p:blipFill>
        <p:spPr>
          <a:xfrm>
            <a:off x="6359400" y="2895480"/>
            <a:ext cx="2784600" cy="3562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http://upload.wikimedia.org/wikipedia/commons/thumb/9/99/Vladimir_Putin_in_Cuba_14-17_December_2000-2.jpg/220px-Vladimir_Putin_in_Cuba_14-17_December_2000-2.jpg"/>
          <p:cNvPicPr/>
          <p:nvPr/>
        </p:nvPicPr>
        <p:blipFill>
          <a:blip r:embed="rId3"/>
          <a:stretch/>
        </p:blipFill>
        <p:spPr>
          <a:xfrm>
            <a:off x="0" y="4419720"/>
            <a:ext cx="2557440" cy="2057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http://upload.wikimedia.org/wikipedia/commons/5/5e/Rice_and_Putin.jpg"/>
          <p:cNvPicPr/>
          <p:nvPr/>
        </p:nvPicPr>
        <p:blipFill>
          <a:blip r:embed="rId4"/>
          <a:stretch/>
        </p:blipFill>
        <p:spPr>
          <a:xfrm>
            <a:off x="2895480" y="4395960"/>
            <a:ext cx="302904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rrent Day Rus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mitri Medvedev is presi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uclear talks with Ob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Fact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urrency-Rub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nguage-Russia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overnment-Federal Semi-Presidential Republ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tal Land Area- 6,529,800 square mil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pulation (2010)- 141,927,297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pital-Moscow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5" descr="Russian-regions[1].png"/>
          <p:cNvPicPr/>
          <p:nvPr/>
        </p:nvPicPr>
        <p:blipFill>
          <a:blip r:embed="rId2"/>
          <a:stretch/>
        </p:blipFill>
        <p:spPr>
          <a:xfrm>
            <a:off x="6219720" y="1523880"/>
            <a:ext cx="2924280" cy="2055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Kremlin_27.06.2008_01[1].jpg"/>
          <p:cNvPicPr/>
          <p:nvPr/>
        </p:nvPicPr>
        <p:blipFill>
          <a:blip r:embed="rId3"/>
          <a:stretch/>
        </p:blipFill>
        <p:spPr>
          <a:xfrm>
            <a:off x="5943600" y="4618080"/>
            <a:ext cx="320040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6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orks Cited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9, October. "Cuban Missile Crisis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Cuban_Missle_Crisis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935?36, In. "Leonid Brezhnev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Leonid_Brezhnev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991, In August. "Boris Yeltsin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Boris_Yeltsin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Chechnya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Chechnya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llis, Elisabeth Gaynor., Anthony Esler, and Burton F. Beers.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Prentice Hall World History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Boston, Mass.: Pearson/Prentice Hall, 2007. Prin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Korean War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Korean_War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Mikhail Gorbachev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Mikhail_Gorbachev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Russia Timeline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AbsoluteAstronomy.co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www.absoluteastronomy.com/timeline/Russia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Russian Culture Timeline: Rise of Russia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Infoplease: Encyclopedia, Almanac, Atlas, Biographies, Dictionary, Thesaurus. Free Online Reference, Research &amp; Homework Help. ? Infoplease.co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www.infoplease.com/spot/russiatime5.html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Russian Revolution (1917)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Russian_Revolution_(1917)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Soviet Union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U.S.S.R.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Soviet War in Afghanistan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Soviet_war_in_Afghanistan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Soviet War in Afghanistan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Soviet_war_in_Afghanistan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Space Race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Space_Race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Timeline: Czarist Russia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Infoplease: Encyclopedia, Almanac, Atlas, Biographies, Dictionary, Thesaurus. Free Online Reference, Research &amp; Homework Help. ? Infoplease.co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www.infoplease.com/spot/russiatime2.html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Vladimir Lenin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Lenin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ladimir Ilyich Ulyano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rn 187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d Karl Mar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22 Communist Russ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Economic Policy N.E.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od production gr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built econom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http://upload.wikimedia.org/wikipedia/commons/thumb/b/b9/Lenin.jpg/225px-Leni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00800" y="1447920"/>
            <a:ext cx="2143080" cy="2828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http://upload.wikimedia.org/wikipedia/commons/thumb/6/60/Lenin-office-1918.jpg/250px-Lenin-office-1918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91120" y="4896000"/>
            <a:ext cx="25812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mmunism vs. Democracy + Free Market system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12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lective Fa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ate run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ret Pol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4648320" y="167652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d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0’s-40’s-Union of Soviet Socialist Republ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n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ussia, Ukraine, Byelorussia, Transcauca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Soviet Socialist Republics numbered by the Soviet constitutio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2987640"/>
            <a:ext cx="564840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al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rn 19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feated Trotsky when Lenin die in 19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ctator 19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 year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rges-NKV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lit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ivil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n-aggression pact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http://upload.wikimedia.org/wikipedia/commons/thumb/3/3a/Joseph_Stalin.jpg/225px-Joseph_Stal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3124080"/>
            <a:ext cx="2143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WII 1939-194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land Po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ltic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n aggression p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rman inva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g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kY-namNpMM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are you ea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Bread and Stroganoff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9000" spc="-1" strike="noStrike">
                <a:solidFill>
                  <a:srgbClr val="000000"/>
                </a:solidFill>
                <a:latin typeface="Calibri"/>
              </a:rPr>
              <a:t>VODKA!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1676520"/>
            <a:ext cx="6781680" cy="6858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"/>
          <p:cNvSpPr/>
          <p:nvPr/>
        </p:nvSpPr>
        <p:spPr>
          <a:xfrm>
            <a:off x="2057400" y="3886200"/>
            <a:ext cx="5715000" cy="1676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d of WW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ttle for Ber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vision of Ber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rlin airlift 1948-194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http://upload.wikimedia.org/wikipedia/commons/thumb/5/5d/Berlinermauer.jpg/300px-Berlinermau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43434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http://upload.wikimedia.org/wikipedia/commons/thumb/8/8e/Deutschland_Besatzungszonen_-_1945_1946.svg/220px-Deutschland_Besatzungszonen_-_1945_1946.sv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824040"/>
            <a:ext cx="472428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3:26:21Z</dcterms:created>
  <dc:creator>Valued Acer Customer</dc:creator>
  <dc:description/>
  <dc:language>en-US</dc:language>
  <cp:lastModifiedBy>brian meeks</cp:lastModifiedBy>
  <dcterms:modified xsi:type="dcterms:W3CDTF">2010-05-03T12:08:27Z</dcterms:modified>
  <cp:revision>33</cp:revision>
  <dc:subject/>
  <dc:title>RUSSIA</dc:title>
</cp:coreProperties>
</file>