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FF0-8D9D-4B0E-A461-4CE9FAF5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7D64-D549-4BA7-A3B3-C5A81319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70B1-303A-41B4-A575-B5AE6783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B152-F63A-4221-8BCF-7E15151B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0D2-6C7C-42BC-85D3-8B200DB4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D774-3009-46C5-95CB-A691839C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0004-B600-47A0-B149-D483B2E4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6198-44FE-40C8-B477-64916FF9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4D2D-B719-418F-B486-5554D73B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73CB-CEC5-41F1-9B4A-AAE35E79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7371-C7E1-49E9-9F83-6D34B9CF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18BA-BF9B-48DC-B0B9-65082B24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049F-0BC9-4F04-9745-980AFB017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10960"/>
            <a:ext cx="10363320" cy="7068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8120" y="419112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yler F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0’s to Pre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6-Arrest 150 people who were a threat to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crackdown from Cuban government since the 6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 - 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5 - Socialist Party founded, forming the structure for the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6 - Fidel Castro - future communist lead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4 US abandons its right to intervene in Cuba’s internal affairs. The US changed its way to do business with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-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938 - Communist Party legal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1 - Declared war on Germany, Japan, and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3 - Soviet Embassy opened in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50-1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2 - Batista seizes power over an oppressive and corrupt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3 - Fidel Castro leads an unsuccessful revolt again Ba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6 - Castro flights a guerrilla war in eastern Cuba with “Che” Guev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9 - Castro leads a guerrilla army into Havana, removing Batista from off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del Castro becomes prime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ro’s brother, Raul, becomes 2nd in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” Guevera is th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0 - US breaks off relations with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US sponsors an aborted “Bay of Pigs” inva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Castro proclaims Cuba a communist state and is allies with USSR(Rus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2 - Cuban Missl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ro allows USSR to allow nuclear missiles on Cu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panic in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withdrawn when the US removed their nuclear missiles from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5 - Renames Political party to the Cuban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2 - Cuba becomes a full member of the Soviet Council for Mutual Economic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6 - Fidel Castro becomes President of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7- US set limited diplomated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80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1-Costa Rica breaks off relations with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- Cuba executes four top military officers for conspiring to smugg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8:29:19Z</dcterms:created>
  <dc:creator>brian meeks</dc:creator>
  <dc:description/>
  <dc:language>en-US</dc:language>
  <cp:lastModifiedBy>Paideia School</cp:lastModifiedBy>
  <dcterms:modified xsi:type="dcterms:W3CDTF">2010-04-30T19:05:41Z</dcterms:modified>
  <cp:revision>5</cp:revision>
  <dc:subject/>
  <dc:title>CUBA</dc:title>
</cp:coreProperties>
</file>