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2ECD-67E0-4F1B-861D-2183E4ED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8FE-C86E-42AE-BA75-EBB7C917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E5A-A9A1-49B4-99CE-7388EB7D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F85-8A7C-4D95-A59F-4889E24E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EEE-511D-4E99-9156-3EF88D7A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5FA-B15F-4981-969E-D80DAD7D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93D6-A8B3-4075-8037-0E2D8EB1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D59-ED61-4ED5-A26C-69AED13F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3685-0ED4-4753-BC0E-05C4E5D7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36E-CEB4-4D2A-BB82-063BE1DA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9E73-8358-40F6-B23F-4BACA9BB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E89-B65D-441E-A80A-387CCEA4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BEF1-2AEF-494D-82B3-952262058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10960"/>
            <a:ext cx="10363320" cy="7068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8120" y="419112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yler F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0’s to Pre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6-Arrest 150 people who were a threat to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crackdown from Cuban government since the 6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 - 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5 - Socialist Party founded, forming the structure for the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6 - Fidel Castro - future communist lead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4 US abandons its right to intervene in Cuba’s internal affairs. The US changed its way to do business with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-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938 - Communist Party legal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1 - Declared war on Germany, Japan, and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3 - Soviet Embassy opened in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50-1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2 - Batista seizes power over an oppressive and corrupt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3 - Fidel Castro leads an unsuccessful revolt again Ba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6 - Castro flights a guerrilla war in eastern Cuba with “Che” Guev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9 - Castro leads a guerrilla army into Havana, removing Batista from off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del Castro becomes prime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ro’s brother, Raul, becomes 2nd in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” Guevera is th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0 - US breaks off relations with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US sponsors an aborted “Bay of Pigs” inva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Castro proclaims Cuba a communist state and is allies with USSR(Rus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2 - Cuban Missl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ro allows USSR to allow nuclear missiles on Cu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panic in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withdrawn when the US removed their nuclear missiles from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5 - Renames Political party to the Cuban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2 - Cuba becomes a full member of the Soviet Council for Mutual Economic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6 - Fidel Castro becomes President of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7- US set limited diplomated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80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1-Costa Rica breaks off relations with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- Cuba executes four top military officers for conspiring to smugg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8:29:19Z</dcterms:created>
  <dc:creator>brian meeks</dc:creator>
  <dc:description/>
  <dc:language>en-US</dc:language>
  <cp:lastModifiedBy>Paideia School</cp:lastModifiedBy>
  <dcterms:modified xsi:type="dcterms:W3CDTF">2010-04-30T19:05:41Z</dcterms:modified>
  <cp:revision>5</cp:revision>
  <dc:subject/>
  <dc:title>CUBA</dc:title>
</cp:coreProperties>
</file>