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281-E02E-415A-8CC8-1ADFF016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0E5-51E4-4E5D-8FBA-6149F5D1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E3A-52E0-495B-9900-C020B0FE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4C9-9117-4E3D-917A-5ECB2C18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2BA-D1A3-4262-91E7-C1EF5C46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751-3037-4D0C-ACFA-E911EBDD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189-655C-4517-92DA-BE5A76E9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110-A54B-4042-BB60-2CEE4CE4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6DA-A3E7-41D4-9CC9-BD92B711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C67-360B-4214-B1E8-BCEDE414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EC5-37BB-481B-BADE-89484030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FFF-3F46-44CB-BBF3-B0908EF6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CFBB-7A09-450B-8D18-CD14D1780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10960"/>
            <a:ext cx="10363320" cy="706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41911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yler F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’s to Pre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6-Arrest 150 people who were a threat to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crackdown from Cuban government since the 6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 - 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5 - Socialist Party founded, forming the structure for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6 - Fidel Castro - future communist lead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4 US abandons its right to intervene in Cuba’s internal affairs. The US changed its way to do business with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-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938 - Communist Party lega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1 - Declared war on Germany, Japan, and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3 - Soviet Embassy opened in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0-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2 - Batista seizes power over an oppressive and corrupt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 - Fidel Castro leads an unsuccessful revolt again Ba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6 - Castro flights a guerrilla war in eastern Cuba with “Che” Guev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9 - Castro leads a guerrilla army into Havana, removing Batista from of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del Castro becomes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ro’s brother, Raul, becomes 2nd in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” Guevera is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 - US breaks off relations with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US sponsors an aborted “Bay of Pigs” inva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Castro proclaims Cuba a communist state and is allies with USSR(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 - Cuban Miss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ro allows USSR to allow nuclear missiles on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panic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withdrawn when the US removed their nuclear missiles from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 - Renames Political party to the Cuban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2 - Cuba becomes a full member of the Soviet Council for Mutual Economic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6 - Fidel Castro becomes President of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7- US set limited diplomated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1-Costa Rica breaks off relations with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- Cuba executes four top military officers for conspiring to smugg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8:29:19Z</dcterms:created>
  <dc:creator>brian meeks</dc:creator>
  <dc:description/>
  <dc:language>en-US</dc:language>
  <cp:lastModifiedBy>Paideia School</cp:lastModifiedBy>
  <dcterms:modified xsi:type="dcterms:W3CDTF">2010-04-30T19:05:41Z</dcterms:modified>
  <cp:revision>5</cp:revision>
  <dc:subject/>
  <dc:title>CUBA</dc:title>
</cp:coreProperties>
</file>