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65E-0BDA-4BC6-A751-D436DF14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2AB-7E64-47A6-8D5A-ABAFD9F6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E25-E00D-4545-B887-404FAFDF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CF8-6D00-4EF1-9801-A58D64F8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4F5-8F1E-49C3-BCDF-A7692E6F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286-CC3E-4CC8-B7CD-4EF7B6F9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35F-D280-4029-85C6-8E4F14A4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6E3-476C-4CB8-B219-48DEB93D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C177-1181-49A1-8D15-A0FBD262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6BC-E4BD-4E86-8F21-0BCF54D2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60D-7675-4DE5-A508-7064BD22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8D3-7433-4400-9844-D62319E4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0049-25EF-458E-A841-E77A1E0E1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10960"/>
            <a:ext cx="10363320" cy="706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41911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yler F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’s to Pre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6-Arrest 150 people who were a threat to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crackdown from Cuban government since the 6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 - 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5 - Socialist Party founded, forming the structure for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6 - Fidel Castro - future communist lead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4 US abandons its right to intervene in Cuba’s internal affairs. The US changed its way to do business with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-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938 - Communist Party lega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1 - Declared war on Germany, Japan, and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3 - Soviet Embassy opened in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0-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2 - Batista seizes power over an oppressive and corrupt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 - Fidel Castro leads an unsuccessful revolt again Ba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6 - Castro flights a guerrilla war in eastern Cuba with “Che” Guev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9 - Castro leads a guerrilla army into Havana, removing Batista from of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del Castro becomes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ro’s brother, Raul, becomes 2nd in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” Guevera is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 - US breaks off relations with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US sponsors an aborted “Bay of Pigs” inva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Castro proclaims Cuba a communist state and is allies with USSR(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 - Cuban Miss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ro allows USSR to allow nuclear missiles on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panic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withdrawn when the US removed their nuclear missiles from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 - Renames Political party to the Cuban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2 - Cuba becomes a full member of the Soviet Council for Mutual Economic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6 - Fidel Castro becomes President of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7- US set limited diplomated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1-Costa Rica breaks off relations with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- Cuba executes four top military officers for conspiring to smugg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8:29:19Z</dcterms:created>
  <dc:creator>brian meeks</dc:creator>
  <dc:description/>
  <dc:language>en-US</dc:language>
  <cp:lastModifiedBy>Paideia School</cp:lastModifiedBy>
  <dcterms:modified xsi:type="dcterms:W3CDTF">2010-04-30T19:05:41Z</dcterms:modified>
  <cp:revision>5</cp:revision>
  <dc:subject/>
  <dc:title>CUBA</dc:title>
</cp:coreProperties>
</file>