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2EC-05DE-4331-882B-16049F5C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D63-16C7-4324-B41F-6E658BE4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B2B-A86E-4B6E-8BAA-0571F01D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C84-30F2-410C-9157-7D3E8272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8B8-28B7-4407-91C5-6540FD8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FCE-9B7B-4FFD-B7A2-BC3C8A4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ED8-E1A0-46A7-877C-E40767DE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C52-78A8-4CDE-AE99-06205CAC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E66-9A8C-45DD-AA05-283A4E1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917-D368-4145-BC8C-ECE2776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58A-4E98-4C58-B422-15A212A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5C4-94EC-4A58-8636-D773202E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219-74F9-4E36-8E2E-B839E63D9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59192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27T19:07:36Z</dcterms:modified>
  <cp:revision>4</cp:revision>
  <dc:subject/>
  <dc:title>CUBA</dc:title>
</cp:coreProperties>
</file>