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3A5-F842-46CA-ACF6-C2BD6731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334-9D49-43EE-8B23-D40B086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05B-C3D1-48E4-8474-3EE62993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D9D-9225-4EC0-A8E7-B739A3FD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760-E30B-46FF-8229-3A29DA09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B11-DDBB-4E5E-AE63-FCE7F721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C61-1D4D-4E11-A109-1381603C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61D-F351-4F41-962F-4377B4C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AB8-DB45-43E5-9F19-189D138F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08C-5725-4C40-97BA-7516C2F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E6C-E377-43CB-B346-7BA1973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D04-4F3C-4492-AA3A-BA688F7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F8B-C633-4EF0-9326-5DDB2330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59192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27T19:07:36Z</dcterms:modified>
  <cp:revision>4</cp:revision>
  <dc:subject/>
  <dc:title>CUBA</dc:title>
</cp:coreProperties>
</file>