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9A73-669C-4ADC-9C41-3453732C6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8B30-E2D7-4E12-A41E-173DC3E8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A997-2853-45C3-A0E2-47AFDEC87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7847-91B9-4CAA-838B-162BA3ED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842B-D5F9-43AC-A0AD-F859E19D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6388-75F2-4775-A6AA-BFE7ADA6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0114-7846-4DE3-9A17-B1F05FFA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5CDD-F1B7-423A-A4FB-A9FAA603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7698-A2A7-48E8-A1B7-E95985B0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7F5E-4412-466A-90AB-FD112E9C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51DC-BE8F-4385-8E49-53D253CB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D355-E804-42AE-ADD8-B8540EA7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A466-D138-4E75-8403-62BE5B0BD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10591920" cy="72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20 - 19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5 - Socialist Party founded, forming the structure for the Communist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6 - Fidel Castro - future communist leader was b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34 US abandons its right to intervene in Cuba’s internal affairs. The US changed its way to do business with Cu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20-19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1938 - Communist Party legaliz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1 - Declared war on Germany, Japan, and It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3 - Soviet Embassy opened in Hav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50-19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2 - Batista seizes power over an oppressive and corrupt r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3 - Fidel Castro leads an unsuccessful revolt again Bat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6 - Castro flights a guerrilla war in eastern Cuba with “Che” Guev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ban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9 - Castro leads a guerrilla army into Havana, removing Batista from offi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del Castro becomes prime min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ro’s brother, Raul, becomes 2nd in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” Guevera is thi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6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0 - US breaks off relations with Hav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1 - US sponsors an aborted “Bay of Pigs” inva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1 - Castro proclaims Cuba a communist state and is allies with USSR(Russ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6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2 - Cuban Missl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tro allows USSR to allow nuclear missiles on Cub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d panic in the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ere withdrawn when the US removed their nuclear missiles from Tur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5 - Renames Political party to the Cuban Communist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7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2 - Cuba becomes a full member of the Soviet Council for Mutual Economic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6 - Fidel Castro becomes President of Cu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18:29:19Z</dcterms:created>
  <dc:creator>brian meeks</dc:creator>
  <dc:description/>
  <dc:language>en-US</dc:language>
  <cp:lastModifiedBy>Paideia School</cp:lastModifiedBy>
  <dcterms:modified xsi:type="dcterms:W3CDTF">2010-04-27T19:07:36Z</dcterms:modified>
  <cp:revision>4</cp:revision>
  <dc:subject/>
  <dc:title>CUBA</dc:title>
</cp:coreProperties>
</file>