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ED63-4A10-4265-9DD9-AA0FD4502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7875-E65D-47CC-BCC4-8F558FF2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DF4C-C377-4CED-8366-E092C7C8B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C366-5486-4735-B75F-34BCF51A2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D301-E9B7-4C48-8588-8BD7589A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4B30-31C4-4400-B9A9-9F2BE988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E8A0-5E55-4E95-BD0D-E60C05C8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72DB-F019-4161-BAD4-3385D9F3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2236-E196-49A3-805E-192BA3EB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577F-5AD2-4697-BBDB-675A63A7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5E44-EF7F-45C3-9C12-F2694307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1E7F-3E0A-4B2F-ACC8-699B6D3D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9496-7E64-44D1-80A7-BAEFD037E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10591920" cy="72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20 - 19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5 - Socialist Party founded, forming the structure for the Communist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6 - Fidel Castro - future communist leader was b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34 US abandons its right to intervene in Cuba’s internal affairs. The US changed its way to do business with Cu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20-19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1938 - Communist Party legaliz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1 - Declared war on Germany, Japan, and It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3 - Soviet Embassy opened in Hav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50-19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2 - Batista seizes power over an oppressive and corrupt r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3 - Fidel Castro leads an unsuccessful revolt again Bat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6 - Castro flights a guerrilla war in eastern Cuba with “Che” Guev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ban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9 - Castro leads a guerrilla army into Havana, removing Batista from offi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del Castro becomes prime min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ro’s brother, Raul, becomes 2nd in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” Guevera is thi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6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0 - US breaks off relations with Hav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1 - US sponsors an aborted “Bay of Pigs” inva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1 - Castro proclaims Cuba a communist state and is allies with USSR(Russ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6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2 - Cuban Missl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tro allows USSR to allow nuclear missiles on Cub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d panic in the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ere withdrawn when the US removed their nuclear missiles from Tur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5 - Renames Political party to the Cuban Communist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7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2 - Cuba becomes a full member of the Soviet Council for Mutual Economic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6 - Fidel Castro becomes President of Cu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18:29:19Z</dcterms:created>
  <dc:creator>brian meeks</dc:creator>
  <dc:description/>
  <dc:language>en-US</dc:language>
  <cp:lastModifiedBy>Paideia School</cp:lastModifiedBy>
  <dcterms:modified xsi:type="dcterms:W3CDTF">2010-04-27T19:07:36Z</dcterms:modified>
  <cp:revision>4</cp:revision>
  <dc:subject/>
  <dc:title>CUBA</dc:title>
</cp:coreProperties>
</file>