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791-B316-471F-A49D-49EEAC7B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67A-3816-4543-9CDB-6DC79CEB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C44-FDEF-436F-9EC7-B1942360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924-A14C-41F8-92FD-EF677002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254-86B3-44AD-AF4C-D6521656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2CF-41A9-4D0F-8F6B-E330540B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75E-6B8B-4FC4-98A6-50CB1180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279-7FAF-4D40-9982-DE5B859B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D92-9754-4AF0-8CB7-0DCD0413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D25-8292-4783-BB3B-411F28C3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49C-8E50-42C4-BB12-AC38037E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D9D-23BB-473F-93E8-D8E467DD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C11D-9C1F-4F9E-B448-A6C1962BD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10960"/>
            <a:ext cx="10363320" cy="706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41911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yler F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’s to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6-Arrest 150 people who were a threat to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rackdown from Cuban government since the 6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7- US set limited diplomated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-Costa Rica breaks off relations with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 Cuba executes four top military officers for conspiring to smugg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Paideia School</cp:lastModifiedBy>
  <dcterms:modified xsi:type="dcterms:W3CDTF">2010-04-30T19:05:41Z</dcterms:modified>
  <cp:revision>5</cp:revision>
  <dc:subject/>
  <dc:title>CUBA</dc:title>
</cp:coreProperties>
</file>