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8AE-820D-44EA-A25C-E579A539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EE9-39C5-4A1B-AF90-CF0032DD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013-6E5A-4EEC-B34A-B0141D61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8A7-CD15-4DD7-B78D-F269B9B4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4BF-98C8-4F55-A84D-1E2CA13B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AE9-BEC5-41FD-AB93-4DE47082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AF0-3584-4405-84A8-4D8F48AF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6A5-F404-442D-808A-F90FDBD8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BA8-6BBD-4199-B480-C391D322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F5A-63E5-49F7-B073-2943C810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FE8-CFFD-4E9C-BA4E-80B6F35D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74C-88FF-4D4D-BD3C-C2F33056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4E79-3644-4211-A189-0B878E239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10960"/>
            <a:ext cx="10363320" cy="706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41911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yler F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’s to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6-Arrest 150 people who were a threat to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rackdown from Cuban government since the 6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 - 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5 - Socialist Party founded, forming the structure for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- Fidel Castro - future communist lead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 US abandons its right to intervene in Cuba’s internal affairs. The US changed its way to do business with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0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38 - Communist Party leg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1 - Declared war on Germany, Japan, and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3 - Soviet Embassy opened in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0-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2 - Batista seizes power over an oppressive and corrupt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 - Fidel Castro leads an unsuccessful revolt again Ba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- Castro flights a guerrilla war in eastern Cuba with “Che” Guev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9 - Castro leads a guerrilla army into Havana, removing Batista from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del Castro becomes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’s brother, Raul, becomes 2nd in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” Guevera is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 - US breaks off relations with Ha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US sponsors an aborted “Bay of Pigs” inva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- Castro proclaims Cuba a communist state and is allies with USSR(Rus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 - Cuban Miss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ro allows USSR to allow nuclear missiles on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panic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withdrawn when the US removed their nuclear missiles from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 - Renames Political party to the Cub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 - Cuba becomes a full member of the Soviet Council for Mutual Economic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6 - Fidel Castro becomes Presiden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7- US set limited diplomated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-Costa Rica breaks off relations with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 Cuba executes four top military officers for conspiring to smugg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8:29:19Z</dcterms:created>
  <dc:creator>brian meeks</dc:creator>
  <dc:description/>
  <dc:language>en-US</dc:language>
  <cp:lastModifiedBy>Paideia School</cp:lastModifiedBy>
  <dcterms:modified xsi:type="dcterms:W3CDTF">2010-04-30T19:05:41Z</dcterms:modified>
  <cp:revision>5</cp:revision>
  <dc:subject/>
  <dc:title>CUBA</dc:title>
</cp:coreProperties>
</file>