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jpeg" ContentType="image/jpeg"/>
  <Override PartName="/ppt/media/image7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4F09-A024-4218-BA03-9CE10312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B6B4-11C7-4BD0-8C7F-B100418A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724-326E-48AF-82C9-D383550C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404-A11E-4011-B087-57293B45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B01-BB6E-4478-9187-BBCA1C51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E2C4-EFA6-4D4F-A8CD-3E8B1677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0CD-C614-45F1-8BC7-9C69A012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8339-BB11-4ACF-B864-6D10AC33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229-BC0B-4547-9D57-38E2B18E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26E-9D52-420D-955A-71D92BFD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77F1-CF58-41BE-B4BC-EC4FAFB6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686-00AA-43C4-B1BA-64AC76F7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71C3-5EEA-4AC8-8164-B33CFA6C2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Hitler + Stalin = Destruction of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Sign non aggression 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Invade po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Russia annex Baltic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Germany invades the 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41, 3 million Ger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Blitzkri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Scorch and Burn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2.5 million Russian capu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P.O.W. c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Stalingr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408924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Leningr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362320" y="2057400"/>
            <a:ext cx="44956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Battle for Ber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4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Allies allow Russians to take Ber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Berlin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Post WWII Berlin di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Brit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R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Turn east Germany Commu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Berlin Airli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Post 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49 test first atomic bo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53 Stalin 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Replaced Nikita Khrushch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Allow some freedoms cause Baltic un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50’s-80 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Cuban Missle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cf"/>
                </a:solidFill>
                <a:latin typeface="Arial"/>
              </a:rPr>
              <a:t>196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Back to Stalin 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64 Leonid Brezhnev over throw Khrush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Try turn U.S.S.R. super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00c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Cold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U.S. and U.S.S.R. weapons 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Bio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Shelters- 2 week foo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Treaties-Strategic Arms Limitation Talks-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0cf"/>
                </a:solidFill>
                <a:latin typeface="Arial"/>
              </a:rPr>
              <a:t>1963-Nuclear Test Ban Trea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0cf"/>
                </a:solidFill>
                <a:latin typeface="Arial"/>
              </a:rPr>
              <a:t>1972-SALT I - stop new weapons biu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0cf"/>
                </a:solidFill>
                <a:latin typeface="Arial"/>
              </a:rPr>
              <a:t>1972 SALT I different - limit anti missle miss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0cf"/>
                </a:solidFill>
                <a:latin typeface="Arial"/>
              </a:rPr>
              <a:t>1979 SALT II - limit number of weapons each side can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0cf"/>
                </a:solidFill>
                <a:latin typeface="Arial"/>
              </a:rPr>
              <a:t>START - reduction of weap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Ko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Planes, Pilots, Tanks,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China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Border cla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Techn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Space 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57 first Satel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61 first manned space 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Invasion of Afghanis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8-19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I.A. involm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4038480" cy="2849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28600" y="1523880"/>
            <a:ext cx="42670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80’s-Present 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S.R. 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y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hail Gorbachev work to rebiul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Decline of the 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tic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1991-Fall of the 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6997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Nuclear d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Pu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Russia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What are you ea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Russi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Kronstadt rebellion 19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Civil War red vs. white 1918-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Vladimir Ilyich Le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Military c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L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Red T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Forms U.S.S.R. Union of Soviet Socialists Republ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24 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Life for Civil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3124080"/>
            <a:ext cx="4495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Comm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people supposed to have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No consumer products instead heavy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3048120"/>
            <a:ext cx="3886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20’s-40’s-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1922-Russia, Belarus, Ukraine, Moldova, Georgia, Armenia, Azerbaijan, Kazakhistan, Uzbekistan, Turkmenistan, Kyrgyzstan, Tajikistan, Estonia, Latvia, Lithua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WWII-Estonia, Lithuania, Latvia, 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53341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Sta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5 year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Collective 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Heavy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Pu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AK-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Symbol of Communism/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Ak-47 vs. M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3:46:12Z</dcterms:created>
  <dc:creator>Paideia School</dc:creator>
  <dc:description/>
  <dc:language>en-US</dc:language>
  <cp:lastModifiedBy>Paideia School</cp:lastModifiedBy>
  <dcterms:modified xsi:type="dcterms:W3CDTF">2010-04-26T14:04:27Z</dcterms:modified>
  <cp:revision>6</cp:revision>
  <dc:subject/>
  <dc:title>Russia</dc:title>
</cp:coreProperties>
</file>