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jpeg" ContentType="image/jpeg"/>
  <Override PartName="/ppt/media/image7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84E-DB4B-4345-A940-1EE43BAC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7B7-613D-4E72-AE28-5B17AF5E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45F-899C-47BC-AC89-D0C60528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00E5-C941-4987-A45A-90C90B4A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9AE-2F2F-4924-BA9D-55F202D7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B2D6-B7BA-403C-9B82-FF3E164C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EDE-3FD6-4C8A-8AA5-81A4BAE5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6E1A-E306-4057-B7D3-7B736254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F12-B5C8-42B8-8BEF-DC7DE8C4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B31C-DFC4-4128-A559-D04BA725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86B-8EEB-4568-B637-C569F3AD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B6B6-FD75-479F-955B-F4F0197E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C711-388C-4085-A26B-62D50F9DE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Hitler + Stalin = Destruction of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Sign non aggression 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Invade po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Russia annex Baltic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Germany invades the 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41, 3 million Ger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Blitzkri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Scorch and Burn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2.5 million Russian capu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P.O.W. c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Stalingr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408924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Leningr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362320" y="2057400"/>
            <a:ext cx="44956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Battle for Ber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4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Allies allow Russians to take Ber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Berlin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Post WWII Berlin di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Brit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R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Turn east Germany Commu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Berlin Airli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Post 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49 test first atomic bo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53 Stalin 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Replaced Nikita Khrushch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Allow some freedoms cause Baltic un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50’s-80 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Cuban Missle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cf"/>
                </a:solidFill>
                <a:latin typeface="Arial"/>
              </a:rPr>
              <a:t>196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Back to Stalin 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64 Leonid Brezhnev over throw Khrush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Try turn U.S.S.R. super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00c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Cold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U.S. and U.S.S.R. weapons 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0cf"/>
                </a:solidFill>
                <a:latin typeface="Arial"/>
              </a:rPr>
              <a:t>Bio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Shelters- 2 week foo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Treaties-Strategic Arms Limitation Talks-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0cf"/>
                </a:solidFill>
                <a:latin typeface="Arial"/>
              </a:rPr>
              <a:t>1963-Nuclear Test Ban Trea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0cf"/>
                </a:solidFill>
                <a:latin typeface="Arial"/>
              </a:rPr>
              <a:t>1972-SALT I - stop new weapons biu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0cf"/>
                </a:solidFill>
                <a:latin typeface="Arial"/>
              </a:rPr>
              <a:t>1972 SALT I different - limit anti missle miss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0cf"/>
                </a:solidFill>
                <a:latin typeface="Arial"/>
              </a:rPr>
              <a:t>1979 SALT II - limit number of weapons each side can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0cf"/>
                </a:solidFill>
                <a:latin typeface="Arial"/>
              </a:rPr>
              <a:t>START - reduction of weap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Ko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Planes, Pilots, Tanks,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China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Border cla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Techn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Space 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57 first Satel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61 first manned space 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Invasion of Afghanis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8-19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I.A. involm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4038480" cy="2849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28600" y="1523880"/>
            <a:ext cx="42670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80’s-Present 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S.R. 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y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hail Gorbachev work to rebiul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Decline of the 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tic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1991-Fall of the 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6997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Nuclear d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Pu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Russia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What are you ea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Russi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Kronstadt rebellion 19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Civil War red vs. white 1918-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Vladimir Ilyich Le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a00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Military c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L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Red T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Forms U.S.S.R. Union of Soviet Socialists Republ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1924 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Life for Civil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3124080"/>
            <a:ext cx="4495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Comm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people supposed to have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No consumer products instead heavy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3048120"/>
            <a:ext cx="3886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20’s-40’s-U.S.S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1922-Russia, Belarus, Ukraine, Moldova, Georgia, Armenia, Azerbaijan, Kazakhistan, Uzbekistan, Turkmenistan, Kyrgyzstan, Tajikistan, Estonia, Latvia, Lithua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0cf"/>
                </a:solidFill>
                <a:latin typeface="Arial"/>
              </a:rPr>
              <a:t>WWII-Estonia, Lithuania, Latvia, 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53341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Sta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5 year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Collective 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Heavy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Pu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0cf"/>
                </a:solidFill>
                <a:latin typeface="Arial"/>
              </a:rPr>
              <a:t>AK-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Symbol of Communism/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Ak-47 vs. M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0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0cf"/>
                </a:solidFill>
                <a:latin typeface="Arial"/>
              </a:rPr>
              <a:t>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3:46:12Z</dcterms:created>
  <dc:creator>Paideia School</dc:creator>
  <dc:description/>
  <dc:language>en-US</dc:language>
  <cp:lastModifiedBy>Paideia School</cp:lastModifiedBy>
  <dcterms:modified xsi:type="dcterms:W3CDTF">2010-04-26T14:04:27Z</dcterms:modified>
  <cp:revision>6</cp:revision>
  <dc:subject/>
  <dc:title>Russia</dc:title>
</cp:coreProperties>
</file>