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4A8-DBC4-416A-B3DF-448EF85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571-3F77-4932-90EC-441AA5B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AE7-0F6A-4B16-8A5B-443FF7FE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6BC-A283-44E4-82B1-5F732B1B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6C6-D4F1-4B39-9A90-09C77CF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C3B-28C0-4E8A-936E-E9FF51B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E29-4416-415A-9138-325CA171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92F-F9B0-4547-9197-9A2F9B0D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FE3-69F5-4B56-AB94-DA8A3DB7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0F8-5886-45A5-963F-5A7CDEF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CC3-7AD3-458F-93B9-83D861D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66A-43F5-4DE5-B985-AF0E516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E05-BA90-4AC7-AEB8-54BECD20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itler + Stalin = Destruction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ign non 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Invade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ussia annex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Germany invades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1, 3 million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litzkr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corch and B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2.5 million Russian cap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.O.W.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0892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495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ttle for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ies allow Russians to take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ost WWII Berlin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urn east Germany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erlin Airl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ost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Replaced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ow some freedoms cause Baltic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50’s-80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uban Miss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cf"/>
                </a:solidFill>
                <a:latin typeface="Arial"/>
              </a:rPr>
              <a:t>19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ck to Stalin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4 Leonid Brezhnev over throw Khrus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y turn U.S.S.R. super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00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U.S. and U.S.S.R. weapons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Shelters- 2 week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eaties-Strategic Arms Limitation Talks-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63-Nuclear Test Ban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-SALT I - stop new weapons biu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 SALT I different - limit anti missle mis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9 SALT II - limit number of weapons each side can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START - reduction of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lanes, Pilots, Tanks,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hin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order c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7 first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1 first 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8-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A. involm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2849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80’s-Present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.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hail Gorbachev work to rebiu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Decline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1991-Fall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699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Nuclear d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Kronstadt rebellion 19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ivil War red vs. white 1918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Vladimir Ilyich L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Military 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ed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Forms U.S.S.R. Union of Soviet Socialists Repub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24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ife for Civil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mm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eople supposed to hav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No consumer products instead 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048120"/>
            <a:ext cx="3886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20’s-40’s-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1922-Russia, Belarus, Ukraine, Moldova, Georgia, Armenia, Azerbaijan, Kazakhistan, Uzbekistan, Turkmenistan, Kyrgyzstan, Tajikistan, Estonia, Latvia, Lithu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WWII-Estonia, Lithuania, Latvia,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334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llective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u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AK-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ymbol of Communism/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Ak-47 vs. M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46:12Z</dcterms:created>
  <dc:creator>Paideia School</dc:creator>
  <dc:description/>
  <dc:language>en-US</dc:language>
  <cp:lastModifiedBy>Paideia School</cp:lastModifiedBy>
  <dcterms:modified xsi:type="dcterms:W3CDTF">2010-04-26T14:04:27Z</dcterms:modified>
  <cp:revision>6</cp:revision>
  <dc:subject/>
  <dc:title>Russia</dc:title>
</cp:coreProperties>
</file>