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E60B4-E151-4036-9A97-ABD2F0B34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9BB7A-94CB-4429-BCA7-8DBA83805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5462D-3018-4DC2-AEE2-96988B602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C7182-0C65-4C07-A088-B32407B20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68280-FAD5-4A25-84E5-D99641507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9D34-3A23-439A-BB17-2F8FD6695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354A1-C298-49C4-A47D-3433120B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41B7F-CC93-4F58-926D-47A09372B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43406-203C-4506-93F0-3E9A52F1A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E7C8-FA93-46AF-839A-5A1EE27D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528A7-194E-4DA6-91AF-170E64269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4A4B8-B70D-484D-BD83-38E3DBC6F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51D1-1B44-425A-9345-AE54FA7AC1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webdesign.org/img_articles/7288/1.gif&amp;imgrefurl=http://www.webdesign.org/photoshop/drawing-techniques/pcb-wires.7288.html&amp;usg=__ORrFhJ-DXDQrqluYdHljEphTkSw=&amp;h=300&amp;w=400&amp;sz=1&amp;hl=en&amp;start=1&amp;sig2=LHFELQiTT-O0StmWTQWDCA&amp;um=1&amp;itbs=1&amp;tbnid=aGrv9dLRqsz-gM:&amp;tbnh=93&amp;tbnw=124&amp;prev=/images%3Fq%3Dvertical%2Bline%26um%3D1%26hl%3Den%26rlz%3D1R2ADBS_enUS355%26tbs%3Disch:1&amp;ei=dxviS8fQK4PGlQfHvqSkAg" TargetMode="External"/><Relationship Id="rId2" Type="http://schemas.openxmlformats.org/officeDocument/2006/relationships/image" Target="../media/image1.jpeg"/><Relationship Id="rId3" Type="http://schemas.openxmlformats.org/officeDocument/2006/relationships/hyperlink" Target="http://images.google.com/imgres?imgurl=http://c2.api.ning.com/files/sYhwUrVFe*ISYNcaGAdV2DrcDjr*Iaa0bJqkbpgc6AD2FB1-witMrby8E9Cv3Qd3QSYvPwAVFvwCOa4hHe25QS0zMc2X0Sun/british_flag.jpg&amp;imgrefurl=http://ipower.ning.com/group/britishpride&amp;usg=__gdcHmP8r1cQ8he6dBjmxVflmLO0=&amp;h=482&amp;w=800&amp;sz=126&amp;hl=en&amp;start=14&amp;sig2=7-qSsBAzV3UtqtTyYUEhWg&amp;um=1&amp;itbs=1&amp;tbnid=GwXI8suNvkynNM:&amp;tbnh=86&amp;tbnw=143&amp;prev=/images%3Fq%3Dflag%2Bof%2Bbritain%26um%3D1%26hl%3Den%26rlz%3D1R2ADBS_enUS355%26tbs%3Disch:1&amp;ei=UxviS4nOJMKclgf4y7GeA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google.com/imgres?imgurl=http://johnault.files.wordpress.com/2009/11/thatcher-margaret-photo-margaret-thatcher-62302071.jpg&amp;imgrefurl=http://johnault.wordpress.com/2009/11/15/%25E2%2580%259Cthatcher-is-dead%25E2%2580%259D-announces-prime-minister/&amp;usg=__KjmD636quqyASpCFcfiXoF2a9L0=&amp;h=500&amp;w=400&amp;sz=49&amp;hl=en&amp;start=3&amp;um=1&amp;itbs=1&amp;tbnid=d750G2d9m_L-KM:&amp;tbnh=130&amp;tbnw=104&amp;prev=/images%3Fq%3Dmargaret%2Bthatcher%26um%3D1%26hl%3Den%26sa%3DN%26rlz%3D1R2ADBS_enUS355%26tbs%3Disch:1" TargetMode="External"/><Relationship Id="rId2" Type="http://schemas.openxmlformats.org/officeDocument/2006/relationships/image" Target="../media/image8.jpeg"/><Relationship Id="rId3" Type="http://schemas.openxmlformats.org/officeDocument/2006/relationships/hyperlink" Target="http://www.google.com/imgres?imgurl=http://www.aboutfarthings.co.uk/Site%2520Images/Elizabeth%2520II.jpg&amp;imgrefurl=http://www.aboutfarthings.co.uk/Elizabeth%2520II%2520Farthings.html&amp;usg=__i_MKIHjIz64-LHjuLkc4IS1-q_g=&amp;h=521&amp;w=417&amp;sz=28&amp;hl=en&amp;start=1&amp;um=1&amp;itbs=1&amp;tbnid=7teHXXJ4CGcSlM:&amp;tbnh=131&amp;tbnw=105&amp;prev=/images%3Fq%3Delizabeth%2Bii%26um%3D1%26hl%3Den%26rlz%3D1R2ADBS_enUS355%26tbs%3Disch:1"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azpirc.com/images/2008home/little-kid.png&amp;imgrefurl=http://www.azpirc.com/&amp;usg=__Cz7rssHLyZ-r6nW5pV2w9zhVATA=&amp;h=478&amp;w=429&amp;sz=236&amp;hl=en&amp;start=13&amp;sig2=RxXi4Acc2DHIrvOitDVuzQ&amp;um=1&amp;itbs=1&amp;tbnid=iKLqXJMsYSCR8M:&amp;tbnh=129&amp;tbnw=116&amp;prev=/images%3Fq%3Dlittle%2Bkid%26um%3D1%26hl%3Den%26sa%3DN%26rlz%3D1R2ADBS_enUS355%26tbs%3Disch:1&amp;ei=DibiS-qGOoKclgeluczAA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qtrOJnpmz6s" TargetMode="Externa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s" descr="">
            <a:hlinkClick r:id="rId1"/>
          </p:cNvPr>
          <p:cNvPicPr/>
          <p:nvPr/>
        </p:nvPicPr>
        <p:blipFill>
          <a:blip r:embed="rId2"/>
          <a:stretch/>
        </p:blipFill>
        <p:spPr>
          <a:xfrm>
            <a:off x="1066680" y="3124080"/>
            <a:ext cx="1992600" cy="1143000"/>
          </a:xfrm>
          <a:prstGeom prst="rect">
            <a:avLst/>
          </a:prstGeom>
          <a:ln w="0">
            <a:noFill/>
          </a:ln>
        </p:spPr>
      </p:pic>
      <p:sp>
        <p:nvSpPr>
          <p:cNvPr id="42" name="PlaceHolder 1"/>
          <p:cNvSpPr>
            <a:spLocks noGrp="1"/>
          </p:cNvSpPr>
          <p:nvPr>
            <p:ph type="title"/>
          </p:nvPr>
        </p:nvSpPr>
        <p:spPr>
          <a:xfrm>
            <a:off x="13716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E n g l a n d </a:t>
            </a:r>
            <a:endParaRPr b="0" lang="en-US" sz="4400" spc="-1" strike="noStrike">
              <a:solidFill>
                <a:srgbClr val="000000"/>
              </a:solidFill>
              <a:latin typeface="Times New Roman"/>
            </a:endParaRPr>
          </a:p>
        </p:txBody>
      </p:sp>
      <p:sp>
        <p:nvSpPr>
          <p:cNvPr id="43"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4"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8"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images" descr="">
            <a:hlinkClick r:id="rId3"/>
          </p:cNvPr>
          <p:cNvPicPr/>
          <p:nvPr/>
        </p:nvPicPr>
        <p:blipFill>
          <a:blip r:embed="rId4"/>
          <a:stretch/>
        </p:blipFill>
        <p:spPr>
          <a:xfrm>
            <a:off x="1828800" y="2438280"/>
            <a:ext cx="1635120" cy="982800"/>
          </a:xfrm>
          <a:prstGeom prst="rect">
            <a:avLst/>
          </a:prstGeom>
          <a:ln w="0">
            <a:noFill/>
          </a:ln>
        </p:spPr>
      </p:pic>
      <p:sp>
        <p:nvSpPr>
          <p:cNvPr id="52"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3"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61760" y="1219320"/>
            <a:ext cx="8381880" cy="50292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0</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Winston Churchill becomes prime minister</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4</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Italians invaded British East Africa</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13</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the Battle of Britain commences, lasting 57 days straight. Hitler attacks the RAF, then heads for London.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Britain prepares for an invasion within two week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3</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Italy invades British Egypt. British soldiers manage to drive them back to Libya in January.</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Hitler postpones his planned invasion on England in favor of Russia, unknowingly to either country</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2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Germany, Italy, &amp; Japan form alliances in the event of a British attack</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October 12</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Hitler abandons any ideas of invading England, but the blitz continues nonetheless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6</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President Roosevelt of the US provides a leasing package to England to restore supplies damaged from German attacks. The US continues to remain neutral.</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29</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biggest air raid of the blitz occurs in London, with over 3,000 people killed and many buildings lost to the bombs or resulting fire.</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1</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41: Hitler calls his air force back. The blitz e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rch-July 1941 England has to fight off both German and Italy forces from their bases in Africa. England also fights in the Middle East to maintain access to oil that Churchill has promoted from getting into German hand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941 England bands with Russia to secure the Anglo Iranian oil field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41 Japanese arrive in Malaysia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December 25</a:t>
            </a:r>
            <a:r>
              <a:rPr b="0" lang="en-US" sz="2000" spc="-1" strike="noStrike" baseline="30000">
                <a:solidFill>
                  <a:srgbClr val="000000"/>
                </a:solidFill>
                <a:latin typeface="BatangChe"/>
                <a:ea typeface="Arial"/>
              </a:rPr>
              <a:t>th</a:t>
            </a:r>
            <a:r>
              <a:rPr b="0" lang="en-US" sz="2000" spc="-1" strike="noStrike">
                <a:solidFill>
                  <a:srgbClr val="000000"/>
                </a:solidFill>
                <a:latin typeface="BatangChe"/>
                <a:ea typeface="Arial"/>
              </a:rPr>
              <a:t> 1941 Japanese take over British Hong Kong</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42 Japanese invade Singapore, which is British territory.</a:t>
            </a: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February 5</a:t>
            </a:r>
            <a:r>
              <a:rPr b="0" lang="en-US" sz="2000" spc="-1" strike="noStrike" baseline="30000">
                <a:solidFill>
                  <a:srgbClr val="000000"/>
                </a:solidFill>
                <a:latin typeface="BatangChe"/>
                <a:ea typeface="Arial"/>
              </a:rPr>
              <a:t>th</a:t>
            </a:r>
            <a:r>
              <a:rPr b="0" lang="en-US" sz="2000" spc="-1" strike="noStrike">
                <a:solidFill>
                  <a:srgbClr val="000000"/>
                </a:solidFill>
                <a:latin typeface="BatangChe"/>
                <a:ea typeface="Arial"/>
              </a:rPr>
              <a:t> Singapore surrend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42 brings the first round of the England bombing Germany.</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943 the Allies re-obtain North Africa and head for Italy. The takeover begins. The allies plan to take France, Belgium, and- eventually- Germany.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end of 1944, all of Western Europe- up to the Rhine river- has been taken back.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945 Germany surrenders</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2</a:t>
            </a:r>
            <a:r>
              <a:rPr b="0" lang="en-US" sz="2000" spc="-1" strike="noStrike" baseline="30000">
                <a:solidFill>
                  <a:srgbClr val="333333"/>
                </a:solidFill>
                <a:latin typeface="BatangChe"/>
                <a:ea typeface="Times New Roman"/>
              </a:rPr>
              <a:t>nd</a:t>
            </a:r>
            <a:r>
              <a:rPr b="0" lang="en-US" sz="2000" spc="-1" strike="noStrike">
                <a:solidFill>
                  <a:srgbClr val="333333"/>
                </a:solidFill>
                <a:latin typeface="BatangChe"/>
                <a:ea typeface="Times New Roman"/>
              </a:rPr>
              <a:t> 1945 Italy surrenders to allies</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June 1945 Clement Atlee becomes prime ministe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360,000 British citizens killed in total</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400" spc="-1" strike="noStrike">
                <a:solidFill>
                  <a:srgbClr val="333333"/>
                </a:solidFill>
                <a:latin typeface="BatangChe"/>
                <a:ea typeface="Times New Roman"/>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1947 India gains independence from Britai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48 England hosts the Olympic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atangChe"/>
                <a:ea typeface="Times New Roman"/>
              </a:rPr>
              <a:t>	</a:t>
            </a:r>
            <a:endParaRPr b="0" lang="en-US" sz="2400" spc="-1" strike="noStrike">
              <a:solidFill>
                <a:srgbClr val="000000"/>
              </a:solidFill>
              <a:latin typeface="Times New Roman"/>
            </a:endParaRPr>
          </a:p>
        </p:txBody>
      </p:sp>
      <p:pic>
        <p:nvPicPr>
          <p:cNvPr id="88" name="winston_churchill_01" descr="Winston Churchill"/>
          <p:cNvPicPr/>
          <p:nvPr/>
        </p:nvPicPr>
        <p:blipFill>
          <a:blip r:embed="rId1"/>
          <a:stretch/>
        </p:blipFill>
        <p:spPr>
          <a:xfrm>
            <a:off x="6091200" y="3200400"/>
            <a:ext cx="3052800" cy="3657600"/>
          </a:xfrm>
          <a:prstGeom prst="rect">
            <a:avLst/>
          </a:prstGeom>
          <a:ln w="0">
            <a:noFill/>
          </a:ln>
        </p:spPr>
      </p:pic>
      <p:pic>
        <p:nvPicPr>
          <p:cNvPr id="89" name="Elephant%20and%20Castle%20tube%20station%20during%20the%20Blitz%20(SJA)" descr="Used as a bomb shelter "/>
          <p:cNvPicPr/>
          <p:nvPr/>
        </p:nvPicPr>
        <p:blipFill>
          <a:blip r:embed="rId2"/>
          <a:stretch/>
        </p:blipFill>
        <p:spPr>
          <a:xfrm>
            <a:off x="2971800" y="3159000"/>
            <a:ext cx="2975040" cy="3699000"/>
          </a:xfrm>
          <a:prstGeom prst="rect">
            <a:avLst/>
          </a:prstGeom>
          <a:ln w="0">
            <a:noFill/>
          </a:ln>
        </p:spPr>
      </p:pic>
      <p:pic>
        <p:nvPicPr>
          <p:cNvPr id="90" name="Arthur-Neville-Chamberlain" descr="Neville Chamberlain"/>
          <p:cNvPicPr/>
          <p:nvPr/>
        </p:nvPicPr>
        <p:blipFill>
          <a:blip r:embed="rId3"/>
          <a:stretch/>
        </p:blipFill>
        <p:spPr>
          <a:xfrm>
            <a:off x="0" y="3124080"/>
            <a:ext cx="2889360" cy="37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atangChe"/>
              </a:rPr>
              <a:t>1950-8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BatangChe"/>
              </a:rPr>
              <a:t>the fabled fifties</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1 George VI holds the first Festival of Britain</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October 21</a:t>
            </a:r>
            <a:r>
              <a:rPr b="0" lang="en-US" sz="2000" spc="-1" strike="noStrike" baseline="30000">
                <a:solidFill>
                  <a:srgbClr val="333333"/>
                </a:solidFill>
                <a:latin typeface="BatangChe"/>
                <a:ea typeface="Times New Roman"/>
              </a:rPr>
              <a:t>st</a:t>
            </a:r>
            <a:r>
              <a:rPr b="0" lang="en-US" sz="2000" spc="-1" strike="noStrike">
                <a:solidFill>
                  <a:srgbClr val="333333"/>
                </a:solidFill>
                <a:latin typeface="BatangChe"/>
                <a:ea typeface="Times New Roman"/>
              </a:rPr>
              <a:t> 1951 Winston Churchill re-elected for prime minister at the age of76</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February 6</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2 Elizabeth II succeeds George VI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April 1955 Winston Churchill retires, Sir Anthony Eden becomes prime ministe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uly 1956 the Clean Air Act is passed</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November 1956 the US give the Suez Canal back to Egyptian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57 Harold Macmillan becomes prime min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BatangChe"/>
              </a:rPr>
              <a:t>...everything else</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5</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7 Britain tests its first hydrogen bomb</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November 8</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65 the death penalty is abolish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67 abortion and homosexuality are legaliz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72 14 killed by British troops at a protest in Northern Ireland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September 1976 Britain borrows money from the International Monetary Fun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May 3</a:t>
            </a:r>
            <a:r>
              <a:rPr b="0" lang="en-US" sz="2000" spc="-1" strike="noStrike" baseline="30000">
                <a:solidFill>
                  <a:srgbClr val="000000"/>
                </a:solidFill>
                <a:latin typeface="BatangChe"/>
                <a:ea typeface="Arial"/>
              </a:rPr>
              <a:t>rd</a:t>
            </a:r>
            <a:r>
              <a:rPr b="0" lang="en-US" sz="2000" spc="-1" strike="noStrike">
                <a:solidFill>
                  <a:srgbClr val="000000"/>
                </a:solidFill>
                <a:latin typeface="BatangChe"/>
                <a:ea typeface="Arial"/>
              </a:rPr>
              <a:t> 1979 Margaret Thatcher becomes the first woman to be prime min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7"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images" descr="">
            <a:hlinkClick r:id="rId1"/>
          </p:cNvPr>
          <p:cNvPicPr/>
          <p:nvPr/>
        </p:nvPicPr>
        <p:blipFill>
          <a:blip r:embed="rId2"/>
          <a:stretch/>
        </p:blipFill>
        <p:spPr>
          <a:xfrm>
            <a:off x="5789520" y="2666880"/>
            <a:ext cx="3354480" cy="4191120"/>
          </a:xfrm>
          <a:prstGeom prst="rect">
            <a:avLst/>
          </a:prstGeom>
          <a:ln w="0">
            <a:noFill/>
          </a:ln>
        </p:spPr>
      </p:pic>
      <p:sp>
        <p:nvSpPr>
          <p:cNvPr id="101"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2"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images" descr="">
            <a:hlinkClick r:id="rId3"/>
          </p:cNvPr>
          <p:cNvPicPr/>
          <p:nvPr/>
        </p:nvPicPr>
        <p:blipFill>
          <a:blip r:embed="rId4"/>
          <a:stretch/>
        </p:blipFill>
        <p:spPr>
          <a:xfrm>
            <a:off x="0" y="2666880"/>
            <a:ext cx="3359160" cy="4191120"/>
          </a:xfrm>
          <a:prstGeom prst="rect">
            <a:avLst/>
          </a:prstGeom>
          <a:ln w="0">
            <a:noFill/>
          </a:ln>
        </p:spPr>
      </p:pic>
      <p:sp>
        <p:nvSpPr>
          <p:cNvPr id="106"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7"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images" descr=""/>
          <p:cNvPicPr/>
          <p:nvPr/>
        </p:nvPicPr>
        <p:blipFill>
          <a:blip r:embed="rId5"/>
          <a:stretch/>
        </p:blipFill>
        <p:spPr>
          <a:xfrm>
            <a:off x="2895480" y="2666880"/>
            <a:ext cx="3168720" cy="4191120"/>
          </a:xfrm>
          <a:prstGeom prst="rect">
            <a:avLst/>
          </a:prstGeom>
          <a:ln w="0">
            <a:noFill/>
          </a:ln>
        </p:spPr>
      </p:pic>
      <p:sp>
        <p:nvSpPr>
          <p:cNvPr id="111" name=""/>
          <p:cNvSpPr/>
          <p:nvPr/>
        </p:nvSpPr>
        <p:spPr>
          <a:xfrm>
            <a:off x="2743200" y="6858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atangChe"/>
              </a:rPr>
              <a:t>the lead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atangChe"/>
              </a:rPr>
              <a:t>198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uk" descr=""/>
          <p:cNvPicPr/>
          <p:nvPr/>
        </p:nvPicPr>
        <p:blipFill>
          <a:blip r:embed="rId1"/>
          <a:stretch/>
        </p:blipFill>
        <p:spPr>
          <a:xfrm>
            <a:off x="0" y="914400"/>
            <a:ext cx="9144000" cy="541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81 Racial riots in Brixton, London</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April 2</a:t>
            </a:r>
            <a:r>
              <a:rPr b="0" lang="en-US" sz="2000" spc="-1" strike="noStrike" baseline="30000">
                <a:solidFill>
                  <a:srgbClr val="000000"/>
                </a:solidFill>
                <a:latin typeface="BatangChe"/>
                <a:ea typeface="Arial"/>
              </a:rPr>
              <a:t>nd</a:t>
            </a:r>
            <a:r>
              <a:rPr b="0" lang="en-US" sz="2000" spc="-1" strike="noStrike">
                <a:solidFill>
                  <a:srgbClr val="000000"/>
                </a:solidFill>
                <a:latin typeface="BatangChe"/>
                <a:ea typeface="Arial"/>
              </a:rPr>
              <a:t> 1982 Argentina invades the Falkland Islands but are defeated shortly.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85 35 Italians killed at the Liverpool stadium by “British hooligan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89 96 football fans killed at Liverpool stadium.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0 Margaret Thatcher resign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November 8</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65 the death penalty is abolished</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1 Britain fights with the US against Iraq in the Gulf War</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6 Mad Cow Disease causes millions of cows to be slaughter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7 Britain gives Hong Kong back to Chin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 1997 this happen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
        <p:nvSpPr>
          <p:cNvPr id="117"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8"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images" descr=""/>
          <p:cNvPicPr/>
          <p:nvPr/>
        </p:nvPicPr>
        <p:blipFill>
          <a:blip r:embed="rId1"/>
          <a:stretch/>
        </p:blipFill>
        <p:spPr>
          <a:xfrm>
            <a:off x="4648320" y="2755800"/>
            <a:ext cx="3962160" cy="386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tangChe"/>
                <a:ea typeface="Arial"/>
              </a:rPr>
              <a:t>	</a:t>
            </a:r>
            <a:r>
              <a:rPr b="0" lang="en-US" sz="1800" spc="-1" strike="noStrike">
                <a:solidFill>
                  <a:srgbClr val="000000"/>
                </a:solidFill>
                <a:latin typeface="BatangChe"/>
                <a:ea typeface="Arial"/>
              </a:rPr>
              <a:t>-1997 British biologist Ian Wilmut clones a sheep.</a:t>
            </a:r>
            <a:endParaRPr b="0" lang="en-US" sz="1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7 Lady Dianna dies in a “mysterious” car acciden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89 96 football fans killed at Liverpool stadium.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9 Scotland inaugurates its own parliamen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2001 Britain fights with the US against Afghanistan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2003 Tony Blair (prime minister) &amp; George W. Bush order the invasion of Iraq to overthrow Sadum Hussein. Tony Blair later admits that Hussein had no weapons of mass destruction (the reason to invade.)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uicide bombers kill 55 in London</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BatangChe"/>
              </a:rPr>
              <a:t>2007-2009</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he stock market crash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he London stock market loses 31%, the biggest loss in 24 yea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September, 2009</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rPr>
              <a:t>-The British stock market has the best three months in 25 yea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BatangChe"/>
              </a:rPr>
              <a:t>background</a:t>
            </a:r>
            <a:endParaRPr b="0" lang="en-US" sz="4400" spc="-1" strike="noStrike">
              <a:solidFill>
                <a:srgbClr val="000000"/>
              </a:solidFill>
              <a:latin typeface="Times New Roman"/>
            </a:endParaRPr>
          </a:p>
        </p:txBody>
      </p:sp>
      <p:sp>
        <p:nvSpPr>
          <p:cNvPr id="58" name="PlaceHolder 2"/>
          <p:cNvSpPr>
            <a:spLocks noGrp="1"/>
          </p:cNvSpPr>
          <p:nvPr>
            <p:ph/>
          </p:nvPr>
        </p:nvSpPr>
        <p:spPr>
          <a:xfrm>
            <a:off x="0" y="1447560"/>
            <a:ext cx="914400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UK total population: 61,113,205</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Nationality: (noun) Briton 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British (collective plura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Dominant religion: Christian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ime zone: 5 hours ahea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Legal drinking age: 18</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Life expectancy average: 79</a:t>
            </a:r>
            <a:endParaRPr b="0" lang="en-US" sz="3200" spc="-1" strike="noStrike">
              <a:solidFill>
                <a:srgbClr val="000000"/>
              </a:solidFill>
              <a:latin typeface="Times New Roman"/>
            </a:endParaRPr>
          </a:p>
        </p:txBody>
      </p:sp>
      <p:sp>
        <p:nvSpPr>
          <p:cNvPr id="59"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images" descr="">
            <a:hlinkClick r:id="rId1"/>
          </p:cNvPr>
          <p:cNvPicPr/>
          <p:nvPr/>
        </p:nvPicPr>
        <p:blipFill>
          <a:blip r:embed="rId2"/>
          <a:stretch/>
        </p:blipFill>
        <p:spPr>
          <a:xfrm>
            <a:off x="6335640" y="3733920"/>
            <a:ext cx="280836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BatangChe"/>
              </a:rPr>
              <a:t>pre-1920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ea typeface="Times New Roman"/>
              </a:rPr>
              <a:t>	</a:t>
            </a:r>
            <a:r>
              <a:rPr b="0" lang="en-US" sz="2800" spc="-1" strike="noStrike">
                <a:solidFill>
                  <a:srgbClr val="000000"/>
                </a:solidFill>
                <a:latin typeface="BatangChe"/>
                <a:ea typeface="Times New Roman"/>
              </a:rPr>
              <a:t>-1916 Irish revolt against British rule in the Easter Rising, but it’s quickly hushed up.</a:t>
            </a:r>
            <a:br>
              <a:rPr sz="2800"/>
            </a:br>
            <a:br>
              <a:rPr sz="2800"/>
            </a:br>
            <a:r>
              <a:rPr b="0" lang="en-US" sz="2800" spc="-1" strike="noStrike">
                <a:solidFill>
                  <a:srgbClr val="000000"/>
                </a:solidFill>
                <a:latin typeface="BatangChe"/>
                <a:ea typeface="Times New Roman"/>
              </a:rPr>
              <a:t>-1917 Britain issues the Balfour Declaration, a statement that encourages the building of Jewish communities in Palestine. Later, conflict arises when thousands of Jews follow it and clash with the occupying Arab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7"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BatangChe"/>
              </a:rPr>
              <a:t>1920-40 </a:t>
            </a:r>
            <a:br>
              <a:rPr sz="4400"/>
            </a:br>
            <a:r>
              <a:rPr b="0" lang="en-US" sz="4400" spc="-1" strike="noStrike">
                <a:solidFill>
                  <a:srgbClr val="ccccff"/>
                </a:solidFill>
                <a:latin typeface="BatangChe"/>
              </a:rPr>
              <a:t>g e n e r a 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2514600"/>
            <a:ext cx="85345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Gandhi makes trouble in Indi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Conservatives were ruling the political syste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France, Germany, Britain, &amp; foreign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BatangChe"/>
              </a:rPr>
              <a:t>the turbulent twenties</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752120"/>
            <a:ext cx="8458200" cy="4800600"/>
          </a:xfrm>
          <a:prstGeom prst="rect">
            <a:avLst/>
          </a:prstGeom>
          <a:noFill/>
          <a:ln w="0">
            <a:noFill/>
          </a:ln>
        </p:spPr>
        <p:txBody>
          <a:bodyPr lIns="90000" rIns="90000" tIns="46800" bIns="46800" anchor="t">
            <a:normAutofit fontScale="96000"/>
          </a:bodyPr>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22 Britain forced to grant Egypt independence after a series of revolts prompted by suffering during WWI</a:t>
            </a:r>
            <a:br>
              <a:rPr sz="2000"/>
            </a:b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22 Irish launch a guerilla war against the British, and shortly after Ireland and Britain agree to the majority of Ireland becoming the self-governing Irish Free State, with only the mainly Protestant northern counties left for Britain to control.</a:t>
            </a:r>
            <a:br>
              <a:rPr sz="2000"/>
            </a:b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26 A general strike erupted by some 3 million workers after becoming unionized, lasting nine days. </a:t>
            </a: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28 Women gained equal status to men after a long ordeal to get there, but sexism still exists in great quantiti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BatangChe"/>
              </a:rPr>
              <a:t>the thoughtless thirties</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447560"/>
            <a:ext cx="8458200" cy="5257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31 After the hit of the Great Depression, one in four workers is unemployed.</a:t>
            </a:r>
            <a:br>
              <a:rPr sz="2000"/>
            </a:br>
            <a:br>
              <a:rPr sz="2000"/>
            </a:br>
            <a:r>
              <a:rPr b="0" lang="en-US" sz="2000" spc="-1" strike="noStrike">
                <a:solidFill>
                  <a:srgbClr val="000000"/>
                </a:solidFill>
                <a:latin typeface="BatangChe"/>
                <a:ea typeface="Arial"/>
              </a:rPr>
              <a:t>-December 1936 Edward VIII abdicated to marry an American divorcee, shocks the people. He had succeeded George V in Janua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BatangChe"/>
                <a:ea typeface="Arial"/>
              </a:rPr>
              <a:t>-1938 At the Munich Conference, Britain and France agree to Hitler’s demands and persuade Czechs to surrender the Sudetenland without bloodshed. British Prime Minister Neville Chamberlain tells his people he’s gotten Britain “peace for our time” and says a little about saving Czechoslovakia, which he completely failed to do.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39 Germany invades Poland, to which Britain has various treaties with. Invasion forces Britain to declare war on Germany.</a:t>
            </a:r>
            <a:r>
              <a:rPr b="0" lang="en-US" sz="2400" spc="-1" strike="noStrike">
                <a:solidFill>
                  <a:srgbClr val="000000"/>
                </a:solidFill>
                <a:latin typeface="BatangChe"/>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BatangChe"/>
                <a:hlinkClick r:id="rId1"/>
              </a:rPr>
              <a:t>http://www.youtube.com/watch?v=qtrOJnpmz6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World war I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1:30:07Z</dcterms:created>
  <dc:creator>Janice Vernon</dc:creator>
  <dc:description/>
  <dc:language>en-US</dc:language>
  <cp:lastModifiedBy>Janice Vernon</cp:lastModifiedBy>
  <dcterms:modified xsi:type="dcterms:W3CDTF">2010-05-06T12:18:23Z</dcterms:modified>
  <cp:revision>58</cp:revision>
  <dc:subject/>
  <dc:title>England</dc:title>
</cp:coreProperties>
</file>